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FABC-7C40-4681-8F59-669EEF0644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lipse is an oval shape with no regular radius. This power point demonstrates how to set out an elips using the pin and string method. There are other methods but this is the most common method used in the industry unless you are using CNC machinery and softw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the X axis marking out the lengt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the centre and put in a perpendicular line to form the Y axis. Mark of the length evenly on each s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t a compass equal to half the X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ove the point of the compass to the heigth mark on the Y axis and describe an arc across the X axis as sh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lace nails or panel pins at each of the points indicated making sure they won’t be easily pull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ie a piece of string, (builders line is best, other lines may stretch too much), to one of the F points on the X axis, stretch it around point C and down to the other F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sure it is taught, not tight. If its too tight you could pull the nails out or end up with too small an ellipse. If its too loose, you’ll end up with too big an elli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pin C with a pencil, making sure the pencil is inside the string and pulled outwards to keep the string t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he pencil either left or right to describe the elliptical shap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only mark out a1/4 ellipse template for the best results. Then use that quarter to mark out all the remaining quarters from the X – Y axis lines. This way ellipse will be exactly the same all rou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229C6-06F4-4108-850A-28AECFD25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0C07-7E94-4297-8BFD-B9F75DE6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B4810-90A7-4B16-97B2-D46B41E67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1FC41-D982-498C-A1E0-71C03612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172D-11E0-4C1D-A718-30997E5F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1C16-DC22-40F6-A170-3FAD5072E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586B9-B616-4B2D-9A01-764EF0B5B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384E-A07D-4C5A-8DA4-367ABE757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AB28C-10B4-452C-BF7C-3F8B1544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0B3F-7655-4BB6-860B-228A0D79C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73F3-85B2-412D-A06C-38532943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F5B9-31DB-445D-AA83-19D1591B6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C7C2-F1A3-4D46-B8A2-5749730E9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 name=""/>
          <p:cNvSpPr/>
          <p:nvPr/>
        </p:nvSpPr>
        <p:spPr>
          <a:xfrm>
            <a:off x="932040" y="1936800"/>
            <a:ext cx="2887560" cy="17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27480" y="164952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lipse is an oval shape with no regular radius</a:t>
            </a:r>
            <a:endParaRPr b="0" lang="en-US" sz="1800" spc="-1" strike="noStrike">
              <a:solidFill>
                <a:srgbClr val="000000"/>
              </a:solidFill>
              <a:latin typeface="Times New Roman"/>
            </a:endParaRPr>
          </a:p>
        </p:txBody>
      </p:sp>
      <p:sp>
        <p:nvSpPr>
          <p:cNvPr id="51" name=""/>
          <p:cNvSpPr/>
          <p:nvPr/>
        </p:nvSpPr>
        <p:spPr>
          <a:xfrm>
            <a:off x="5122800" y="2762280"/>
            <a:ext cx="32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et up along 2 axis</a:t>
            </a:r>
            <a:endParaRPr b="0" lang="en-US" sz="1800" spc="-1" strike="noStrike">
              <a:solidFill>
                <a:srgbClr val="000000"/>
              </a:solidFill>
              <a:latin typeface="Times New Roman"/>
            </a:endParaRPr>
          </a:p>
        </p:txBody>
      </p:sp>
      <p:sp>
        <p:nvSpPr>
          <p:cNvPr id="52" name=""/>
          <p:cNvSpPr/>
          <p:nvPr/>
        </p:nvSpPr>
        <p:spPr>
          <a:xfrm>
            <a:off x="5118120" y="345600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 axis is always the longest one.</a:t>
            </a:r>
            <a:endParaRPr b="0" lang="en-US" sz="1800" spc="-1" strike="noStrike">
              <a:solidFill>
                <a:srgbClr val="000000"/>
              </a:solidFill>
              <a:latin typeface="Times New Roman"/>
            </a:endParaRPr>
          </a:p>
        </p:txBody>
      </p:sp>
      <p:sp>
        <p:nvSpPr>
          <p:cNvPr id="53" name=""/>
          <p:cNvSpPr/>
          <p:nvPr/>
        </p:nvSpPr>
        <p:spPr>
          <a:xfrm>
            <a:off x="717480" y="2814480"/>
            <a:ext cx="329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051440" y="2666880"/>
            <a:ext cx="52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55" name=""/>
          <p:cNvSpPr/>
          <p:nvPr/>
        </p:nvSpPr>
        <p:spPr>
          <a:xfrm>
            <a:off x="365040" y="2657520"/>
            <a:ext cx="52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56" name=""/>
          <p:cNvSpPr/>
          <p:nvPr/>
        </p:nvSpPr>
        <p:spPr>
          <a:xfrm>
            <a:off x="2384280" y="1739880"/>
            <a:ext cx="0" cy="21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41720" y="4051440"/>
            <a:ext cx="32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58" name=""/>
          <p:cNvSpPr/>
          <p:nvPr/>
        </p:nvSpPr>
        <p:spPr>
          <a:xfrm>
            <a:off x="2232000" y="1335240"/>
            <a:ext cx="32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59" name=""/>
          <p:cNvSpPr/>
          <p:nvPr/>
        </p:nvSpPr>
        <p:spPr>
          <a:xfrm>
            <a:off x="5130720" y="439416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Y” axis is always the shortest one.</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1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16"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18"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19"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328"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329" name=""/>
          <p:cNvGrpSpPr/>
          <p:nvPr/>
        </p:nvGrpSpPr>
        <p:grpSpPr>
          <a:xfrm>
            <a:off x="1719720" y="2316600"/>
            <a:ext cx="3377880" cy="969480"/>
            <a:chOff x="1719720" y="2316600"/>
            <a:chExt cx="3377880" cy="969480"/>
          </a:xfrm>
        </p:grpSpPr>
        <p:grpSp>
          <p:nvGrpSpPr>
            <p:cNvPr id="330" name=""/>
            <p:cNvGrpSpPr/>
            <p:nvPr/>
          </p:nvGrpSpPr>
          <p:grpSpPr>
            <a:xfrm>
              <a:off x="1719720" y="2316600"/>
              <a:ext cx="139320" cy="383400"/>
              <a:chOff x="1719720" y="2316600"/>
              <a:chExt cx="139320" cy="383400"/>
            </a:xfrm>
          </p:grpSpPr>
          <p:sp>
            <p:nvSpPr>
              <p:cNvPr id="331" name=""/>
              <p:cNvSpPr/>
              <p:nvPr/>
            </p:nvSpPr>
            <p:spPr>
              <a:xfrm rot="648000">
                <a:off x="1780920" y="23670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rot="648000">
                <a:off x="1780560" y="23785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rot="648000">
                <a:off x="1783800" y="2357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rot="648000">
                <a:off x="1790280" y="23227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5" name=""/>
              <p:cNvSpPr/>
              <p:nvPr/>
            </p:nvSpPr>
            <p:spPr>
              <a:xfrm rot="648000">
                <a:off x="1785240" y="23425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rot="648000">
                <a:off x="1800720" y="23889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648000">
                <a:off x="1774800" y="23864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648000">
                <a:off x="1759320" y="23824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1739880" y="23353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648000">
                <a:off x="1829520" y="235008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648000">
                <a:off x="1729440" y="25830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648000">
                <a:off x="1763280" y="260028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648000">
                <a:off x="1778040" y="23868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 name=""/>
              <p:cNvSpPr/>
              <p:nvPr/>
            </p:nvSpPr>
            <p:spPr>
              <a:xfrm>
                <a:off x="1780920" y="23709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 name=""/>
              <p:cNvSpPr/>
              <p:nvPr/>
            </p:nvSpPr>
            <p:spPr>
              <a:xfrm>
                <a:off x="1782720" y="23601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 name=""/>
              <p:cNvSpPr/>
              <p:nvPr/>
            </p:nvSpPr>
            <p:spPr>
              <a:xfrm rot="648000">
                <a:off x="1789200" y="23238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7" name=""/>
              <p:cNvSpPr/>
              <p:nvPr/>
            </p:nvSpPr>
            <p:spPr>
              <a:xfrm flipH="1">
                <a:off x="1755720" y="23853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1781640" y="23889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648000">
                <a:off x="1738800" y="25819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 name=""/>
              <p:cNvSpPr/>
              <p:nvPr/>
            </p:nvSpPr>
            <p:spPr>
              <a:xfrm>
                <a:off x="1783800" y="23508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rot="648000">
                <a:off x="1755000" y="25959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 name=""/>
              <p:cNvSpPr/>
              <p:nvPr/>
            </p:nvSpPr>
            <p:spPr>
              <a:xfrm rot="648000">
                <a:off x="1779120" y="26017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 name=""/>
              <p:cNvSpPr/>
              <p:nvPr/>
            </p:nvSpPr>
            <p:spPr>
              <a:xfrm rot="648000">
                <a:off x="1745640" y="26524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4" name=""/>
              <p:cNvSpPr/>
              <p:nvPr/>
            </p:nvSpPr>
            <p:spPr>
              <a:xfrm>
                <a:off x="1787040" y="23364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55" name=""/>
            <p:cNvSpPr/>
            <p:nvPr/>
          </p:nvSpPr>
          <p:spPr>
            <a:xfrm>
              <a:off x="1765440" y="26892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9"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62"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64"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65"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0"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375"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376" name=""/>
          <p:cNvGrpSpPr/>
          <p:nvPr/>
        </p:nvGrpSpPr>
        <p:grpSpPr>
          <a:xfrm>
            <a:off x="1413000" y="2900520"/>
            <a:ext cx="139680" cy="383760"/>
            <a:chOff x="1413000" y="2900520"/>
            <a:chExt cx="139680" cy="383760"/>
          </a:xfrm>
        </p:grpSpPr>
        <p:sp>
          <p:nvSpPr>
            <p:cNvPr id="377" name=""/>
            <p:cNvSpPr/>
            <p:nvPr/>
          </p:nvSpPr>
          <p:spPr>
            <a:xfrm flipH="1" rot="20952000">
              <a:off x="1422720" y="29509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 name=""/>
            <p:cNvSpPr/>
            <p:nvPr/>
          </p:nvSpPr>
          <p:spPr>
            <a:xfrm flipH="1" rot="20952000">
              <a:off x="1425240" y="2962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flipH="1" rot="20952000">
              <a:off x="1422000" y="29415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H="1" rot="20952000">
              <a:off x="1414080" y="29062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flipH="1" rot="20952000">
              <a:off x="1419120" y="29264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flipH="1" rot="20952000">
              <a:off x="1446480" y="29728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rot="20952000">
              <a:off x="1471320" y="29703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rot="20952000">
              <a:off x="1496520" y="29664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84640" y="29192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rot="20952000">
              <a:off x="1417680" y="29365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rot="20952000">
              <a:off x="1509840" y="31672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rot="20952000">
              <a:off x="1476720" y="31845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rot="20952000">
              <a:off x="1425600" y="29707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 name=""/>
            <p:cNvSpPr/>
            <p:nvPr/>
          </p:nvSpPr>
          <p:spPr>
            <a:xfrm flipH="1">
              <a:off x="1427760" y="2954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1" name=""/>
            <p:cNvSpPr/>
            <p:nvPr/>
          </p:nvSpPr>
          <p:spPr>
            <a:xfrm flipH="1">
              <a:off x="1421640" y="29440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2" name=""/>
            <p:cNvSpPr/>
            <p:nvPr/>
          </p:nvSpPr>
          <p:spPr>
            <a:xfrm flipH="1" rot="20952000">
              <a:off x="1415160" y="2907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 name=""/>
            <p:cNvSpPr/>
            <p:nvPr/>
          </p:nvSpPr>
          <p:spPr>
            <a:xfrm>
              <a:off x="1476720" y="2969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450080" y="29728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rot="20952000">
              <a:off x="1515240" y="31662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flipH="1">
              <a:off x="1423080" y="29347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flipH="1" rot="20952000">
              <a:off x="1489680" y="31802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 name=""/>
            <p:cNvSpPr/>
            <p:nvPr/>
          </p:nvSpPr>
          <p:spPr>
            <a:xfrm flipH="1" rot="20952000">
              <a:off x="1469880" y="31860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 name=""/>
            <p:cNvSpPr/>
            <p:nvPr/>
          </p:nvSpPr>
          <p:spPr>
            <a:xfrm flipH="1" rot="20952000">
              <a:off x="1502640" y="32367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0" name=""/>
            <p:cNvSpPr/>
            <p:nvPr/>
          </p:nvSpPr>
          <p:spPr>
            <a:xfrm flipH="1">
              <a:off x="1416960" y="29203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0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686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1722600" y="3281400"/>
            <a:ext cx="3377880" cy="956520"/>
            <a:chOff x="1722600" y="3281400"/>
            <a:chExt cx="3377880" cy="956520"/>
          </a:xfrm>
        </p:grpSpPr>
        <p:grpSp>
          <p:nvGrpSpPr>
            <p:cNvPr id="418" name=""/>
            <p:cNvGrpSpPr/>
            <p:nvPr/>
          </p:nvGrpSpPr>
          <p:grpSpPr>
            <a:xfrm>
              <a:off x="1722600" y="3854520"/>
              <a:ext cx="139680" cy="383400"/>
              <a:chOff x="1722600" y="3854520"/>
              <a:chExt cx="139680" cy="383400"/>
            </a:xfrm>
          </p:grpSpPr>
          <p:sp>
            <p:nvSpPr>
              <p:cNvPr id="419" name=""/>
              <p:cNvSpPr/>
              <p:nvPr/>
            </p:nvSpPr>
            <p:spPr>
              <a:xfrm flipV="1" rot="20952000">
                <a:off x="1784160" y="417744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V="1" rot="20952000">
                <a:off x="1783800" y="4168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flipV="1" rot="20952000">
                <a:off x="1787040" y="4189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2" name=""/>
              <p:cNvSpPr/>
              <p:nvPr/>
            </p:nvSpPr>
            <p:spPr>
              <a:xfrm flipV="1" rot="20952000">
                <a:off x="1793520" y="42105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flipV="1" rot="20952000">
                <a:off x="1788480" y="4199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flipV="1" rot="20952000">
                <a:off x="1803600" y="3943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rot="20952000">
                <a:off x="1778040" y="39520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rot="20952000">
                <a:off x="1763640" y="3960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1743120" y="3970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rot="20952000">
                <a:off x="1856880" y="395064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rot="20952000">
                <a:off x="1732320" y="38628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rot="20952000">
                <a:off x="1766880" y="38563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rot="20952000">
                <a:off x="1781280" y="41670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 name=""/>
              <p:cNvSpPr/>
              <p:nvPr/>
            </p:nvSpPr>
            <p:spPr>
              <a:xfrm flipV="1">
                <a:off x="1784160" y="41716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3" name=""/>
              <p:cNvSpPr/>
              <p:nvPr/>
            </p:nvSpPr>
            <p:spPr>
              <a:xfrm flipV="1">
                <a:off x="1785960" y="41814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 name=""/>
              <p:cNvSpPr/>
              <p:nvPr/>
            </p:nvSpPr>
            <p:spPr>
              <a:xfrm flipV="1" rot="20952000">
                <a:off x="1792440" y="42109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35" name=""/>
              <p:cNvSpPr/>
              <p:nvPr/>
            </p:nvSpPr>
            <p:spPr>
              <a:xfrm flipH="1" flipV="1">
                <a:off x="1758960" y="39614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flipV="1">
                <a:off x="1784880" y="3955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rot="20952000">
                <a:off x="1742040" y="3962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8" name=""/>
              <p:cNvSpPr/>
              <p:nvPr/>
            </p:nvSpPr>
            <p:spPr>
              <a:xfrm flipV="1">
                <a:off x="1787040" y="41911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flipV="1" rot="20952000">
                <a:off x="1758240" y="39542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0" name=""/>
              <p:cNvSpPr/>
              <p:nvPr/>
            </p:nvSpPr>
            <p:spPr>
              <a:xfrm flipV="1" rot="20952000">
                <a:off x="1782360" y="39434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 name=""/>
              <p:cNvSpPr/>
              <p:nvPr/>
            </p:nvSpPr>
            <p:spPr>
              <a:xfrm flipV="1" rot="20952000">
                <a:off x="1748880" y="38624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2" name=""/>
              <p:cNvSpPr/>
              <p:nvPr/>
            </p:nvSpPr>
            <p:spPr>
              <a:xfrm flipV="1">
                <a:off x="1790280" y="42051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43" name=""/>
            <p:cNvSpPr/>
            <p:nvPr/>
          </p:nvSpPr>
          <p:spPr>
            <a:xfrm flipV="1">
              <a:off x="1768320" y="32814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445"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44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5"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463"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464" name=""/>
          <p:cNvGrpSpPr/>
          <p:nvPr/>
        </p:nvGrpSpPr>
        <p:grpSpPr>
          <a:xfrm>
            <a:off x="1949400" y="3277800"/>
            <a:ext cx="3168720" cy="1303560"/>
            <a:chOff x="1949400" y="3277800"/>
            <a:chExt cx="3168720" cy="1303560"/>
          </a:xfrm>
        </p:grpSpPr>
        <p:grpSp>
          <p:nvGrpSpPr>
            <p:cNvPr id="465" name=""/>
            <p:cNvGrpSpPr/>
            <p:nvPr/>
          </p:nvGrpSpPr>
          <p:grpSpPr>
            <a:xfrm>
              <a:off x="2120760" y="4197600"/>
              <a:ext cx="139680" cy="383760"/>
              <a:chOff x="2120760" y="4197600"/>
              <a:chExt cx="139680" cy="383760"/>
            </a:xfrm>
          </p:grpSpPr>
          <p:sp>
            <p:nvSpPr>
              <p:cNvPr id="466" name=""/>
              <p:cNvSpPr/>
              <p:nvPr/>
            </p:nvSpPr>
            <p:spPr>
              <a:xfrm flipV="1" rot="20952000">
                <a:off x="2182320" y="452088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 name=""/>
              <p:cNvSpPr/>
              <p:nvPr/>
            </p:nvSpPr>
            <p:spPr>
              <a:xfrm flipV="1" rot="20952000">
                <a:off x="2181960" y="4512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flipV="1" rot="20952000">
                <a:off x="2185200" y="4533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flipV="1" rot="20952000">
                <a:off x="2191680" y="45540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flipV="1" rot="20952000">
                <a:off x="2186640" y="45424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flipV="1" rot="20952000">
                <a:off x="2201760" y="42865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rot="20952000">
                <a:off x="2176200" y="429552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rot="20952000">
                <a:off x="2161800" y="43038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a:off x="2141280" y="43135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rot="20952000">
                <a:off x="2255040" y="429336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rot="20952000">
                <a:off x="2130480" y="4205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rot="20952000">
                <a:off x="2165040" y="4199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rot="20952000">
                <a:off x="2179440" y="451044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9" name=""/>
              <p:cNvSpPr/>
              <p:nvPr/>
            </p:nvSpPr>
            <p:spPr>
              <a:xfrm flipV="1">
                <a:off x="2182320" y="45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0" name=""/>
              <p:cNvSpPr/>
              <p:nvPr/>
            </p:nvSpPr>
            <p:spPr>
              <a:xfrm flipV="1">
                <a:off x="2184120" y="45248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1" name=""/>
              <p:cNvSpPr/>
              <p:nvPr/>
            </p:nvSpPr>
            <p:spPr>
              <a:xfrm flipV="1" rot="20952000">
                <a:off x="2190600" y="4554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82" name=""/>
              <p:cNvSpPr/>
              <p:nvPr/>
            </p:nvSpPr>
            <p:spPr>
              <a:xfrm flipH="1" flipV="1">
                <a:off x="2157120" y="4304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flipV="1">
                <a:off x="2183040" y="429840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rot="20952000">
                <a:off x="2140200" y="43056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 name=""/>
              <p:cNvSpPr/>
              <p:nvPr/>
            </p:nvSpPr>
            <p:spPr>
              <a:xfrm flipV="1">
                <a:off x="2185200" y="45345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flipV="1" rot="20952000">
                <a:off x="2156400" y="429660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7" name=""/>
              <p:cNvSpPr/>
              <p:nvPr/>
            </p:nvSpPr>
            <p:spPr>
              <a:xfrm flipV="1" rot="20952000">
                <a:off x="2180520" y="42865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flipV="1" rot="20952000">
                <a:off x="2147040" y="420552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flipV="1">
                <a:off x="2188440" y="45486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90" name=""/>
            <p:cNvSpPr/>
            <p:nvPr/>
          </p:nvSpPr>
          <p:spPr>
            <a:xfrm flipV="1">
              <a:off x="1949400" y="327744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0"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50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510" name=""/>
          <p:cNvGrpSpPr/>
          <p:nvPr/>
        </p:nvGrpSpPr>
        <p:grpSpPr>
          <a:xfrm>
            <a:off x="1949400" y="3268440"/>
            <a:ext cx="3178080" cy="1525680"/>
            <a:chOff x="1949400" y="3268440"/>
            <a:chExt cx="3178080" cy="1525680"/>
          </a:xfrm>
        </p:grpSpPr>
        <p:grpSp>
          <p:nvGrpSpPr>
            <p:cNvPr id="511" name=""/>
            <p:cNvGrpSpPr/>
            <p:nvPr/>
          </p:nvGrpSpPr>
          <p:grpSpPr>
            <a:xfrm>
              <a:off x="2602080" y="4410360"/>
              <a:ext cx="139680" cy="383760"/>
              <a:chOff x="2602080" y="4410360"/>
              <a:chExt cx="139680" cy="383760"/>
            </a:xfrm>
          </p:grpSpPr>
          <p:sp>
            <p:nvSpPr>
              <p:cNvPr id="512" name=""/>
              <p:cNvSpPr/>
              <p:nvPr/>
            </p:nvSpPr>
            <p:spPr>
              <a:xfrm flipV="1" rot="20952000">
                <a:off x="2663640" y="473364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3" name=""/>
              <p:cNvSpPr/>
              <p:nvPr/>
            </p:nvSpPr>
            <p:spPr>
              <a:xfrm flipV="1" rot="20952000">
                <a:off x="2663280" y="4725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flipV="1" rot="20952000">
                <a:off x="2666520" y="4745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5" name=""/>
              <p:cNvSpPr/>
              <p:nvPr/>
            </p:nvSpPr>
            <p:spPr>
              <a:xfrm flipV="1" rot="20952000">
                <a:off x="2673000" y="4766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6" name=""/>
              <p:cNvSpPr/>
              <p:nvPr/>
            </p:nvSpPr>
            <p:spPr>
              <a:xfrm flipV="1" rot="20952000">
                <a:off x="2667960" y="47552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flipV="1" rot="20952000">
                <a:off x="2683080" y="44992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rot="20952000">
                <a:off x="2657520" y="45082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rot="20952000">
                <a:off x="2643120" y="451656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flipV="1">
                <a:off x="2622600" y="45262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rot="20952000">
                <a:off x="2736360" y="4506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rot="20952000">
                <a:off x="2611800" y="441864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rot="20952000">
                <a:off x="2646360" y="4412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rot="20952000">
                <a:off x="2660760" y="4723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flipV="1">
                <a:off x="2663640" y="47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6" name=""/>
              <p:cNvSpPr/>
              <p:nvPr/>
            </p:nvSpPr>
            <p:spPr>
              <a:xfrm flipV="1">
                <a:off x="2665440" y="47376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7" name=""/>
              <p:cNvSpPr/>
              <p:nvPr/>
            </p:nvSpPr>
            <p:spPr>
              <a:xfrm flipV="1" rot="20952000">
                <a:off x="2671920" y="47671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8" name=""/>
              <p:cNvSpPr/>
              <p:nvPr/>
            </p:nvSpPr>
            <p:spPr>
              <a:xfrm flipH="1" flipV="1">
                <a:off x="2638440" y="4517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flipV="1">
                <a:off x="2664360" y="45111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rot="20952000">
                <a:off x="2621520" y="451836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1" name=""/>
              <p:cNvSpPr/>
              <p:nvPr/>
            </p:nvSpPr>
            <p:spPr>
              <a:xfrm flipV="1">
                <a:off x="2666520" y="4747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flipV="1" rot="20952000">
                <a:off x="2637720" y="450936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 name=""/>
              <p:cNvSpPr/>
              <p:nvPr/>
            </p:nvSpPr>
            <p:spPr>
              <a:xfrm flipV="1" rot="20952000">
                <a:off x="2661840" y="44992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 name=""/>
              <p:cNvSpPr/>
              <p:nvPr/>
            </p:nvSpPr>
            <p:spPr>
              <a:xfrm flipV="1" rot="20952000">
                <a:off x="2628360" y="441828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2669760" y="47613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536" name=""/>
            <p:cNvSpPr/>
            <p:nvPr/>
          </p:nvSpPr>
          <p:spPr>
            <a:xfrm flipV="1">
              <a:off x="1949400" y="3268080"/>
              <a:ext cx="317808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263196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556"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557" name=""/>
          <p:cNvGrpSpPr/>
          <p:nvPr/>
        </p:nvGrpSpPr>
        <p:grpSpPr>
          <a:xfrm>
            <a:off x="1968480" y="3268440"/>
            <a:ext cx="3159000" cy="1643040"/>
            <a:chOff x="1968480" y="3268440"/>
            <a:chExt cx="3159000" cy="1643040"/>
          </a:xfrm>
        </p:grpSpPr>
        <p:grpSp>
          <p:nvGrpSpPr>
            <p:cNvPr id="558" name=""/>
            <p:cNvGrpSpPr/>
            <p:nvPr/>
          </p:nvGrpSpPr>
          <p:grpSpPr>
            <a:xfrm>
              <a:off x="3078000" y="4527720"/>
              <a:ext cx="139680" cy="383760"/>
              <a:chOff x="3078000" y="4527720"/>
              <a:chExt cx="139680" cy="383760"/>
            </a:xfrm>
          </p:grpSpPr>
          <p:sp>
            <p:nvSpPr>
              <p:cNvPr id="559" name=""/>
              <p:cNvSpPr/>
              <p:nvPr/>
            </p:nvSpPr>
            <p:spPr>
              <a:xfrm flipV="1" rot="20952000">
                <a:off x="3139560" y="48510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flipV="1" rot="20952000">
                <a:off x="3139200" y="48423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flipV="1" rot="20952000">
                <a:off x="3142440" y="486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 name=""/>
              <p:cNvSpPr/>
              <p:nvPr/>
            </p:nvSpPr>
            <p:spPr>
              <a:xfrm flipV="1" rot="20952000">
                <a:off x="3148920" y="4884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3" name=""/>
              <p:cNvSpPr/>
              <p:nvPr/>
            </p:nvSpPr>
            <p:spPr>
              <a:xfrm flipV="1" rot="20952000">
                <a:off x="3143880" y="48726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4" name=""/>
              <p:cNvSpPr/>
              <p:nvPr/>
            </p:nvSpPr>
            <p:spPr>
              <a:xfrm flipV="1" rot="20952000">
                <a:off x="3159000" y="46166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rot="20952000">
                <a:off x="3133440" y="46256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rot="20952000">
                <a:off x="3119040" y="46339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3098520" y="46436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V="1" rot="20952000">
                <a:off x="3212280" y="46234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rot="20952000">
                <a:off x="3087720" y="45360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rot="20952000">
                <a:off x="3122280" y="45295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rot="20952000">
                <a:off x="3136680" y="48405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2" name=""/>
              <p:cNvSpPr/>
              <p:nvPr/>
            </p:nvSpPr>
            <p:spPr>
              <a:xfrm flipV="1">
                <a:off x="3139560" y="48452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3" name=""/>
              <p:cNvSpPr/>
              <p:nvPr/>
            </p:nvSpPr>
            <p:spPr>
              <a:xfrm flipV="1">
                <a:off x="3141360" y="4854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flipV="1" rot="20952000">
                <a:off x="3147840" y="48844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75" name=""/>
              <p:cNvSpPr/>
              <p:nvPr/>
            </p:nvSpPr>
            <p:spPr>
              <a:xfrm flipH="1" flipV="1">
                <a:off x="3114360" y="46346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flipV="1">
                <a:off x="3140280" y="46285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rot="20952000">
                <a:off x="3097440" y="4635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8" name=""/>
              <p:cNvSpPr/>
              <p:nvPr/>
            </p:nvSpPr>
            <p:spPr>
              <a:xfrm flipV="1">
                <a:off x="3142440" y="4864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flipV="1" rot="20952000">
                <a:off x="3113640" y="4626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0" name=""/>
              <p:cNvSpPr/>
              <p:nvPr/>
            </p:nvSpPr>
            <p:spPr>
              <a:xfrm flipV="1" rot="20952000">
                <a:off x="3137760" y="46166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 name=""/>
              <p:cNvSpPr/>
              <p:nvPr/>
            </p:nvSpPr>
            <p:spPr>
              <a:xfrm flipV="1" rot="20952000">
                <a:off x="3104280" y="45356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flipV="1">
                <a:off x="3145680" y="48787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583" name=""/>
            <p:cNvSpPr/>
            <p:nvPr/>
          </p:nvSpPr>
          <p:spPr>
            <a:xfrm flipV="1">
              <a:off x="1968480" y="326808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3"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311472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flipV="1">
            <a:off x="263196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604"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605" name=""/>
          <p:cNvGrpSpPr/>
          <p:nvPr/>
        </p:nvGrpSpPr>
        <p:grpSpPr>
          <a:xfrm>
            <a:off x="1959120" y="3278160"/>
            <a:ext cx="3149280" cy="1647720"/>
            <a:chOff x="1959120" y="3278160"/>
            <a:chExt cx="3149280" cy="1647720"/>
          </a:xfrm>
        </p:grpSpPr>
        <p:sp>
          <p:nvSpPr>
            <p:cNvPr id="606" name=""/>
            <p:cNvSpPr/>
            <p:nvPr/>
          </p:nvSpPr>
          <p:spPr>
            <a:xfrm>
              <a:off x="34686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3503520" y="4542120"/>
              <a:ext cx="139680" cy="383760"/>
              <a:chOff x="3503520" y="4542120"/>
              <a:chExt cx="139680" cy="383760"/>
            </a:xfrm>
          </p:grpSpPr>
          <p:sp>
            <p:nvSpPr>
              <p:cNvPr id="608" name=""/>
              <p:cNvSpPr/>
              <p:nvPr/>
            </p:nvSpPr>
            <p:spPr>
              <a:xfrm flipV="1" rot="20952000">
                <a:off x="3565080" y="4865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9" name=""/>
              <p:cNvSpPr/>
              <p:nvPr/>
            </p:nvSpPr>
            <p:spPr>
              <a:xfrm flipV="1" rot="20952000">
                <a:off x="3564720" y="48567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0" name=""/>
              <p:cNvSpPr/>
              <p:nvPr/>
            </p:nvSpPr>
            <p:spPr>
              <a:xfrm flipV="1" rot="20952000">
                <a:off x="3567960" y="4877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1" name=""/>
              <p:cNvSpPr/>
              <p:nvPr/>
            </p:nvSpPr>
            <p:spPr>
              <a:xfrm flipV="1" rot="20952000">
                <a:off x="3574440" y="48985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flipV="1" rot="20952000">
                <a:off x="3569400" y="48870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flipV="1" rot="20952000">
                <a:off x="3584520" y="46310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rot="20952000">
                <a:off x="3558960" y="46400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rot="20952000">
                <a:off x="3544560" y="46483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3524040" y="46580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rot="20952000">
                <a:off x="3637800" y="46378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rot="20952000">
                <a:off x="3513240" y="45504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rot="20952000">
                <a:off x="3547800" y="45439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rot="20952000">
                <a:off x="3562200" y="48549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1" name=""/>
              <p:cNvSpPr/>
              <p:nvPr/>
            </p:nvSpPr>
            <p:spPr>
              <a:xfrm flipV="1">
                <a:off x="3565080" y="48596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2" name=""/>
              <p:cNvSpPr/>
              <p:nvPr/>
            </p:nvSpPr>
            <p:spPr>
              <a:xfrm flipV="1">
                <a:off x="3566880" y="48693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flipV="1" rot="20952000">
                <a:off x="3573360" y="48988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4" name=""/>
              <p:cNvSpPr/>
              <p:nvPr/>
            </p:nvSpPr>
            <p:spPr>
              <a:xfrm flipH="1" flipV="1">
                <a:off x="3539880" y="46490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3565800" y="46429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rot="20952000">
                <a:off x="3522960" y="46501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7" name=""/>
              <p:cNvSpPr/>
              <p:nvPr/>
            </p:nvSpPr>
            <p:spPr>
              <a:xfrm flipV="1">
                <a:off x="3567960" y="48790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8" name=""/>
              <p:cNvSpPr/>
              <p:nvPr/>
            </p:nvSpPr>
            <p:spPr>
              <a:xfrm flipV="1" rot="20952000">
                <a:off x="3539160" y="46411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9" name=""/>
              <p:cNvSpPr/>
              <p:nvPr/>
            </p:nvSpPr>
            <p:spPr>
              <a:xfrm flipV="1" rot="20952000">
                <a:off x="3563280" y="46310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 name=""/>
              <p:cNvSpPr/>
              <p:nvPr/>
            </p:nvSpPr>
            <p:spPr>
              <a:xfrm flipV="1" rot="20952000">
                <a:off x="3529800" y="45500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571200" y="48931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632" name=""/>
            <p:cNvSpPr/>
            <p:nvPr/>
          </p:nvSpPr>
          <p:spPr>
            <a:xfrm flipV="1">
              <a:off x="1959120" y="3278160"/>
              <a:ext cx="3149280" cy="128448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9"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66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662" name=""/>
          <p:cNvGrpSpPr/>
          <p:nvPr/>
        </p:nvGrpSpPr>
        <p:grpSpPr>
          <a:xfrm>
            <a:off x="1968120" y="3268440"/>
            <a:ext cx="3159000" cy="1643040"/>
            <a:chOff x="1968120" y="3268440"/>
            <a:chExt cx="3159000" cy="1643040"/>
          </a:xfrm>
        </p:grpSpPr>
        <p:grpSp>
          <p:nvGrpSpPr>
            <p:cNvPr id="663" name=""/>
            <p:cNvGrpSpPr/>
            <p:nvPr/>
          </p:nvGrpSpPr>
          <p:grpSpPr>
            <a:xfrm>
              <a:off x="3868920" y="4527720"/>
              <a:ext cx="139680" cy="383760"/>
              <a:chOff x="3868920" y="4527720"/>
              <a:chExt cx="139680" cy="383760"/>
            </a:xfrm>
          </p:grpSpPr>
          <p:sp>
            <p:nvSpPr>
              <p:cNvPr id="664" name=""/>
              <p:cNvSpPr/>
              <p:nvPr/>
            </p:nvSpPr>
            <p:spPr>
              <a:xfrm flipH="1" flipV="1" rot="648000">
                <a:off x="3878640" y="48517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flipH="1" flipV="1" rot="648000">
                <a:off x="3881160" y="48423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flipH="1" flipV="1" rot="648000">
                <a:off x="3877920" y="486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flipH="1" flipV="1" rot="648000">
                <a:off x="3870000" y="4884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8" name=""/>
              <p:cNvSpPr/>
              <p:nvPr/>
            </p:nvSpPr>
            <p:spPr>
              <a:xfrm flipH="1" flipV="1" rot="648000">
                <a:off x="3875040" y="48726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9" name=""/>
              <p:cNvSpPr/>
              <p:nvPr/>
            </p:nvSpPr>
            <p:spPr>
              <a:xfrm flipH="1" flipV="1" rot="648000">
                <a:off x="3902400" y="46166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flipV="1" rot="648000">
                <a:off x="3927240" y="46256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flipV="1" rot="648000">
                <a:off x="3952440" y="46339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3940560" y="46436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flipV="1" rot="648000">
                <a:off x="3873600" y="46234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rot="648000">
                <a:off x="3965760" y="453600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flipV="1" rot="648000">
                <a:off x="3932640" y="45295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flipV="1" rot="648000">
                <a:off x="3881520" y="48405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7" name=""/>
              <p:cNvSpPr/>
              <p:nvPr/>
            </p:nvSpPr>
            <p:spPr>
              <a:xfrm flipH="1" flipV="1">
                <a:off x="3883680" y="48452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8" name=""/>
              <p:cNvSpPr/>
              <p:nvPr/>
            </p:nvSpPr>
            <p:spPr>
              <a:xfrm flipH="1" flipV="1">
                <a:off x="3877560" y="4854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9" name=""/>
              <p:cNvSpPr/>
              <p:nvPr/>
            </p:nvSpPr>
            <p:spPr>
              <a:xfrm flipH="1" flipV="1" rot="648000">
                <a:off x="3871080" y="48844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0" name=""/>
              <p:cNvSpPr/>
              <p:nvPr/>
            </p:nvSpPr>
            <p:spPr>
              <a:xfrm flipV="1">
                <a:off x="3932640" y="46346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3906000" y="46285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flipV="1" rot="648000">
                <a:off x="3971160" y="4635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flipH="1" flipV="1">
                <a:off x="3879000" y="4864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4" name=""/>
              <p:cNvSpPr/>
              <p:nvPr/>
            </p:nvSpPr>
            <p:spPr>
              <a:xfrm flipH="1" flipV="1" rot="648000">
                <a:off x="3945600" y="4626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85" name=""/>
              <p:cNvSpPr/>
              <p:nvPr/>
            </p:nvSpPr>
            <p:spPr>
              <a:xfrm flipH="1" flipV="1" rot="648000">
                <a:off x="3925800" y="46159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6" name=""/>
              <p:cNvSpPr/>
              <p:nvPr/>
            </p:nvSpPr>
            <p:spPr>
              <a:xfrm flipH="1" flipV="1" rot="648000">
                <a:off x="3959280" y="45356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flipH="1" flipV="1">
                <a:off x="3872880" y="48787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688" name=""/>
            <p:cNvSpPr/>
            <p:nvPr/>
          </p:nvSpPr>
          <p:spPr>
            <a:xfrm flipH="1" flipV="1">
              <a:off x="1967760" y="326808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72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722" name=""/>
          <p:cNvGrpSpPr/>
          <p:nvPr/>
        </p:nvGrpSpPr>
        <p:grpSpPr>
          <a:xfrm>
            <a:off x="1959120" y="3268440"/>
            <a:ext cx="3178080" cy="1525680"/>
            <a:chOff x="1959120" y="3268440"/>
            <a:chExt cx="3178080" cy="1525680"/>
          </a:xfrm>
        </p:grpSpPr>
        <p:grpSp>
          <p:nvGrpSpPr>
            <p:cNvPr id="723" name=""/>
            <p:cNvGrpSpPr/>
            <p:nvPr/>
          </p:nvGrpSpPr>
          <p:grpSpPr>
            <a:xfrm>
              <a:off x="4344840" y="4410360"/>
              <a:ext cx="139680" cy="383760"/>
              <a:chOff x="4344840" y="4410360"/>
              <a:chExt cx="139680" cy="383760"/>
            </a:xfrm>
          </p:grpSpPr>
          <p:sp>
            <p:nvSpPr>
              <p:cNvPr id="724" name=""/>
              <p:cNvSpPr/>
              <p:nvPr/>
            </p:nvSpPr>
            <p:spPr>
              <a:xfrm flipH="1" flipV="1" rot="648000">
                <a:off x="4354560" y="47343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flipH="1" flipV="1" rot="648000">
                <a:off x="4357080" y="4725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
              <p:cNvSpPr/>
              <p:nvPr/>
            </p:nvSpPr>
            <p:spPr>
              <a:xfrm flipH="1" flipV="1" rot="648000">
                <a:off x="4353840" y="4745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7" name=""/>
              <p:cNvSpPr/>
              <p:nvPr/>
            </p:nvSpPr>
            <p:spPr>
              <a:xfrm flipH="1" flipV="1" rot="648000">
                <a:off x="4345920" y="4766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flipH="1" flipV="1" rot="648000">
                <a:off x="4350960" y="47552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flipH="1" flipV="1" rot="648000">
                <a:off x="4378320" y="44992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flipV="1" rot="648000">
                <a:off x="4403160" y="45082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flipV="1" rot="648000">
                <a:off x="4428360" y="451656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4416480" y="45262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flipV="1" rot="648000">
                <a:off x="4349520" y="4506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flipV="1" rot="648000">
                <a:off x="4441680" y="441864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flipV="1" rot="648000">
                <a:off x="4408560" y="4412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flipV="1" rot="648000">
                <a:off x="4357440" y="4723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7" name=""/>
              <p:cNvSpPr/>
              <p:nvPr/>
            </p:nvSpPr>
            <p:spPr>
              <a:xfrm flipH="1" flipV="1">
                <a:off x="4359600" y="47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8" name=""/>
              <p:cNvSpPr/>
              <p:nvPr/>
            </p:nvSpPr>
            <p:spPr>
              <a:xfrm flipH="1" flipV="1">
                <a:off x="4353480" y="47376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9" name=""/>
              <p:cNvSpPr/>
              <p:nvPr/>
            </p:nvSpPr>
            <p:spPr>
              <a:xfrm flipH="1" flipV="1" rot="648000">
                <a:off x="4347000" y="47671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0" name=""/>
              <p:cNvSpPr/>
              <p:nvPr/>
            </p:nvSpPr>
            <p:spPr>
              <a:xfrm flipV="1">
                <a:off x="4408560" y="4517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4381920" y="45111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flipV="1" rot="648000">
                <a:off x="4447080" y="451836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3" name=""/>
              <p:cNvSpPr/>
              <p:nvPr/>
            </p:nvSpPr>
            <p:spPr>
              <a:xfrm flipH="1" flipV="1">
                <a:off x="4354920" y="4747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flipH="1" flipV="1" rot="648000">
                <a:off x="4421520" y="450936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5" name=""/>
              <p:cNvSpPr/>
              <p:nvPr/>
            </p:nvSpPr>
            <p:spPr>
              <a:xfrm flipH="1" flipV="1" rot="648000">
                <a:off x="4401720" y="449856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 name=""/>
              <p:cNvSpPr/>
              <p:nvPr/>
            </p:nvSpPr>
            <p:spPr>
              <a:xfrm flipH="1" flipV="1" rot="648000">
                <a:off x="4435200" y="441828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7" name=""/>
              <p:cNvSpPr/>
              <p:nvPr/>
            </p:nvSpPr>
            <p:spPr>
              <a:xfrm flipH="1" flipV="1">
                <a:off x="4348800" y="47613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748" name=""/>
            <p:cNvSpPr/>
            <p:nvPr/>
          </p:nvSpPr>
          <p:spPr>
            <a:xfrm flipH="1" flipV="1">
              <a:off x="1959120" y="3268080"/>
              <a:ext cx="317808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1"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4"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77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780" name=""/>
          <p:cNvGrpSpPr/>
          <p:nvPr/>
        </p:nvGrpSpPr>
        <p:grpSpPr>
          <a:xfrm>
            <a:off x="1968480" y="3277800"/>
            <a:ext cx="3168720" cy="1303560"/>
            <a:chOff x="1968480" y="3277800"/>
            <a:chExt cx="3168720" cy="1303560"/>
          </a:xfrm>
        </p:grpSpPr>
        <p:grpSp>
          <p:nvGrpSpPr>
            <p:cNvPr id="781" name=""/>
            <p:cNvGrpSpPr/>
            <p:nvPr/>
          </p:nvGrpSpPr>
          <p:grpSpPr>
            <a:xfrm>
              <a:off x="4826160" y="4197600"/>
              <a:ext cx="139680" cy="383760"/>
              <a:chOff x="4826160" y="4197600"/>
              <a:chExt cx="139680" cy="383760"/>
            </a:xfrm>
          </p:grpSpPr>
          <p:sp>
            <p:nvSpPr>
              <p:cNvPr id="782" name=""/>
              <p:cNvSpPr/>
              <p:nvPr/>
            </p:nvSpPr>
            <p:spPr>
              <a:xfrm flipH="1" flipV="1" rot="648000">
                <a:off x="4835880" y="45216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flipH="1" flipV="1" rot="648000">
                <a:off x="4838400" y="4512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4" name=""/>
              <p:cNvSpPr/>
              <p:nvPr/>
            </p:nvSpPr>
            <p:spPr>
              <a:xfrm flipH="1" flipV="1" rot="648000">
                <a:off x="4835160" y="4533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5" name=""/>
              <p:cNvSpPr/>
              <p:nvPr/>
            </p:nvSpPr>
            <p:spPr>
              <a:xfrm flipH="1" flipV="1" rot="648000">
                <a:off x="4827240" y="45540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6" name=""/>
              <p:cNvSpPr/>
              <p:nvPr/>
            </p:nvSpPr>
            <p:spPr>
              <a:xfrm flipH="1" flipV="1" rot="648000">
                <a:off x="4832280" y="45424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flipH="1" flipV="1" rot="648000">
                <a:off x="4859640" y="42865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flipV="1" rot="648000">
                <a:off x="4884480" y="429552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flipV="1" rot="648000">
                <a:off x="4909680" y="43038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4897800" y="43135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rot="648000">
                <a:off x="4830840" y="429336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flipV="1" rot="648000">
                <a:off x="4923000" y="420588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rot="648000">
                <a:off x="4889880" y="4199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rot="648000">
                <a:off x="4838760" y="451044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5" name=""/>
              <p:cNvSpPr/>
              <p:nvPr/>
            </p:nvSpPr>
            <p:spPr>
              <a:xfrm flipH="1" flipV="1">
                <a:off x="4840920" y="45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96" name=""/>
              <p:cNvSpPr/>
              <p:nvPr/>
            </p:nvSpPr>
            <p:spPr>
              <a:xfrm flipH="1" flipV="1">
                <a:off x="4834800" y="45248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7" name=""/>
              <p:cNvSpPr/>
              <p:nvPr/>
            </p:nvSpPr>
            <p:spPr>
              <a:xfrm flipH="1" flipV="1" rot="648000">
                <a:off x="4828320" y="4554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8" name=""/>
              <p:cNvSpPr/>
              <p:nvPr/>
            </p:nvSpPr>
            <p:spPr>
              <a:xfrm flipV="1">
                <a:off x="4889880" y="4304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4863240" y="429840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rot="648000">
                <a:off x="4928400" y="43056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1" name=""/>
              <p:cNvSpPr/>
              <p:nvPr/>
            </p:nvSpPr>
            <p:spPr>
              <a:xfrm flipH="1" flipV="1">
                <a:off x="4836240" y="45345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 name=""/>
              <p:cNvSpPr/>
              <p:nvPr/>
            </p:nvSpPr>
            <p:spPr>
              <a:xfrm flipH="1" flipV="1" rot="648000">
                <a:off x="4902840" y="429660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03" name=""/>
              <p:cNvSpPr/>
              <p:nvPr/>
            </p:nvSpPr>
            <p:spPr>
              <a:xfrm flipH="1" flipV="1" rot="648000">
                <a:off x="4883040" y="42858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 name=""/>
              <p:cNvSpPr/>
              <p:nvPr/>
            </p:nvSpPr>
            <p:spPr>
              <a:xfrm flipH="1" flipV="1" rot="648000">
                <a:off x="4916520" y="420552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flipH="1" flipV="1">
                <a:off x="4830120" y="45486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806" name=""/>
            <p:cNvSpPr/>
            <p:nvPr/>
          </p:nvSpPr>
          <p:spPr>
            <a:xfrm flipH="1" flipV="1">
              <a:off x="1968480" y="327744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2"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1" name=""/>
          <p:cNvSpPr/>
          <p:nvPr/>
        </p:nvSpPr>
        <p:spPr>
          <a:xfrm>
            <a:off x="6238800" y="20271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Mark out the “X” axis.</a:t>
            </a:r>
            <a:endParaRPr b="0" lang="en-US" sz="1800" spc="-1" strike="noStrike">
              <a:solidFill>
                <a:srgbClr val="000000"/>
              </a:solidFill>
              <a:latin typeface="Times New Roman"/>
            </a:endParaRPr>
          </a:p>
        </p:txBody>
      </p:sp>
      <p:sp>
        <p:nvSpPr>
          <p:cNvPr id="72" name=""/>
          <p:cNvSpPr/>
          <p:nvPr/>
        </p:nvSpPr>
        <p:spPr>
          <a:xfrm>
            <a:off x="6245280" y="31161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Find the centre of the X axis.</a:t>
            </a:r>
            <a:endParaRPr b="0" lang="en-US" sz="1800" spc="-1" strike="noStrike">
              <a:solidFill>
                <a:srgbClr val="000000"/>
              </a:solidFill>
              <a:latin typeface="Times New Roman"/>
            </a:endParaRPr>
          </a:p>
        </p:txBody>
      </p:sp>
      <p:sp>
        <p:nvSpPr>
          <p:cNvPr id="73" name=""/>
          <p:cNvSpPr/>
          <p:nvPr/>
        </p:nvSpPr>
        <p:spPr>
          <a:xfrm>
            <a:off x="3529080" y="3181320"/>
            <a:ext cx="0" cy="196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240600" y="43689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ark in the “Y” axis.</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8"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0"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84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842" name=""/>
          <p:cNvGrpSpPr/>
          <p:nvPr/>
        </p:nvGrpSpPr>
        <p:grpSpPr>
          <a:xfrm>
            <a:off x="1986120" y="3281400"/>
            <a:ext cx="3377880" cy="956520"/>
            <a:chOff x="1986120" y="3281400"/>
            <a:chExt cx="3377880" cy="956520"/>
          </a:xfrm>
        </p:grpSpPr>
        <p:grpSp>
          <p:nvGrpSpPr>
            <p:cNvPr id="843" name=""/>
            <p:cNvGrpSpPr/>
            <p:nvPr/>
          </p:nvGrpSpPr>
          <p:grpSpPr>
            <a:xfrm>
              <a:off x="5224320" y="3854520"/>
              <a:ext cx="139680" cy="383400"/>
              <a:chOff x="5224320" y="3854520"/>
              <a:chExt cx="139680" cy="383400"/>
            </a:xfrm>
          </p:grpSpPr>
          <p:sp>
            <p:nvSpPr>
              <p:cNvPr id="844" name=""/>
              <p:cNvSpPr/>
              <p:nvPr/>
            </p:nvSpPr>
            <p:spPr>
              <a:xfrm flipH="1" flipV="1" rot="648000">
                <a:off x="5234040" y="41781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5" name=""/>
              <p:cNvSpPr/>
              <p:nvPr/>
            </p:nvSpPr>
            <p:spPr>
              <a:xfrm flipH="1" flipV="1" rot="648000">
                <a:off x="5236560" y="4168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flipH="1" flipV="1" rot="648000">
                <a:off x="5233320" y="4189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flipH="1" flipV="1" rot="648000">
                <a:off x="5225400" y="42105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 name=""/>
              <p:cNvSpPr/>
              <p:nvPr/>
            </p:nvSpPr>
            <p:spPr>
              <a:xfrm flipH="1" flipV="1" rot="648000">
                <a:off x="5230440" y="4199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9" name=""/>
              <p:cNvSpPr/>
              <p:nvPr/>
            </p:nvSpPr>
            <p:spPr>
              <a:xfrm flipH="1" flipV="1" rot="648000">
                <a:off x="5257800" y="3943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flipV="1" rot="648000">
                <a:off x="5282640" y="39520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flipV="1" rot="648000">
                <a:off x="5307840" y="3960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295960" y="3970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flipV="1" rot="648000">
                <a:off x="5229000" y="395064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flipV="1" rot="648000">
                <a:off x="5321160" y="386280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flipV="1" rot="648000">
                <a:off x="5288040" y="38563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flipV="1" rot="648000">
                <a:off x="5236920" y="41670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H="1" flipV="1">
                <a:off x="5239080" y="41716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flipH="1" flipV="1">
                <a:off x="5232960" y="41814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flipH="1" flipV="1" rot="648000">
                <a:off x="5226480" y="42109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0" name=""/>
              <p:cNvSpPr/>
              <p:nvPr/>
            </p:nvSpPr>
            <p:spPr>
              <a:xfrm flipV="1">
                <a:off x="5288040" y="39614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5261400" y="3955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flipV="1" rot="648000">
                <a:off x="5326560" y="3962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3" name=""/>
              <p:cNvSpPr/>
              <p:nvPr/>
            </p:nvSpPr>
            <p:spPr>
              <a:xfrm flipH="1" flipV="1">
                <a:off x="5234400" y="41911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flipH="1" flipV="1" rot="648000">
                <a:off x="5301000" y="39542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65" name=""/>
              <p:cNvSpPr/>
              <p:nvPr/>
            </p:nvSpPr>
            <p:spPr>
              <a:xfrm flipH="1" flipV="1" rot="648000">
                <a:off x="5281200" y="39427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 name=""/>
              <p:cNvSpPr/>
              <p:nvPr/>
            </p:nvSpPr>
            <p:spPr>
              <a:xfrm flipH="1" flipV="1" rot="648000">
                <a:off x="5313960" y="38624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67" name=""/>
              <p:cNvSpPr/>
              <p:nvPr/>
            </p:nvSpPr>
            <p:spPr>
              <a:xfrm flipH="1" flipV="1">
                <a:off x="5228280" y="42051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868" name=""/>
            <p:cNvSpPr/>
            <p:nvPr/>
          </p:nvSpPr>
          <p:spPr>
            <a:xfrm flipH="1" flipV="1">
              <a:off x="1986120" y="32814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0"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9"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37520" y="2886480"/>
            <a:ext cx="139320" cy="383400"/>
            <a:chOff x="5537520" y="2886480"/>
            <a:chExt cx="139320" cy="383400"/>
          </a:xfrm>
        </p:grpSpPr>
        <p:sp>
          <p:nvSpPr>
            <p:cNvPr id="904" name=""/>
            <p:cNvSpPr/>
            <p:nvPr/>
          </p:nvSpPr>
          <p:spPr>
            <a:xfrm rot="648000">
              <a:off x="5598720" y="293688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rot="648000">
              <a:off x="5598360" y="29484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rot="648000">
              <a:off x="5601600" y="29275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rot="648000">
              <a:off x="5608080" y="28926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8" name=""/>
            <p:cNvSpPr/>
            <p:nvPr/>
          </p:nvSpPr>
          <p:spPr>
            <a:xfrm rot="648000">
              <a:off x="5603040" y="29124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9" name=""/>
            <p:cNvSpPr/>
            <p:nvPr/>
          </p:nvSpPr>
          <p:spPr>
            <a:xfrm rot="648000">
              <a:off x="5618520" y="29588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rot="648000">
              <a:off x="5592600" y="295632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rot="648000">
              <a:off x="5577120" y="2952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5557680" y="290520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rot="648000">
              <a:off x="5647320" y="291996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648000">
              <a:off x="5547240" y="3152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rot="648000">
              <a:off x="5581080" y="317016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rot="648000">
              <a:off x="5595840" y="295668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a:off x="5598720" y="29408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8" name=""/>
            <p:cNvSpPr/>
            <p:nvPr/>
          </p:nvSpPr>
          <p:spPr>
            <a:xfrm>
              <a:off x="5600520" y="29300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9" name=""/>
            <p:cNvSpPr/>
            <p:nvPr/>
          </p:nvSpPr>
          <p:spPr>
            <a:xfrm rot="648000">
              <a:off x="5607000" y="28936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0" name=""/>
            <p:cNvSpPr/>
            <p:nvPr/>
          </p:nvSpPr>
          <p:spPr>
            <a:xfrm flipH="1">
              <a:off x="5573520" y="29552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5599440" y="295884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rot="648000">
              <a:off x="5556600" y="31518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5601600" y="2920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4" name=""/>
            <p:cNvSpPr/>
            <p:nvPr/>
          </p:nvSpPr>
          <p:spPr>
            <a:xfrm rot="648000">
              <a:off x="5572800" y="31658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5" name=""/>
            <p:cNvSpPr/>
            <p:nvPr/>
          </p:nvSpPr>
          <p:spPr>
            <a:xfrm rot="648000">
              <a:off x="5596920" y="31716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 name=""/>
            <p:cNvSpPr/>
            <p:nvPr/>
          </p:nvSpPr>
          <p:spPr>
            <a:xfrm rot="648000">
              <a:off x="5563440" y="322236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7" name=""/>
            <p:cNvSpPr/>
            <p:nvPr/>
          </p:nvSpPr>
          <p:spPr>
            <a:xfrm>
              <a:off x="5604840" y="290628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92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92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93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1"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1989000" y="2302200"/>
            <a:ext cx="3378240" cy="956880"/>
            <a:chOff x="1989000" y="2302200"/>
            <a:chExt cx="3378240" cy="956880"/>
          </a:xfrm>
        </p:grpSpPr>
        <p:grpSp>
          <p:nvGrpSpPr>
            <p:cNvPr id="968" name=""/>
            <p:cNvGrpSpPr/>
            <p:nvPr/>
          </p:nvGrpSpPr>
          <p:grpSpPr>
            <a:xfrm>
              <a:off x="5227560" y="2302200"/>
              <a:ext cx="139680" cy="383400"/>
              <a:chOff x="5227560" y="2302200"/>
              <a:chExt cx="139680" cy="383400"/>
            </a:xfrm>
          </p:grpSpPr>
          <p:sp>
            <p:nvSpPr>
              <p:cNvPr id="969" name=""/>
              <p:cNvSpPr/>
              <p:nvPr/>
            </p:nvSpPr>
            <p:spPr>
              <a:xfrm flipH="1" rot="20952000">
                <a:off x="5237280" y="23526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flipH="1" rot="20952000">
                <a:off x="5239800" y="2364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1" name=""/>
              <p:cNvSpPr/>
              <p:nvPr/>
            </p:nvSpPr>
            <p:spPr>
              <a:xfrm flipH="1" rot="20952000">
                <a:off x="5236560" y="234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2" name=""/>
              <p:cNvSpPr/>
              <p:nvPr/>
            </p:nvSpPr>
            <p:spPr>
              <a:xfrm flipH="1" rot="20952000">
                <a:off x="5228640" y="23079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3" name=""/>
              <p:cNvSpPr/>
              <p:nvPr/>
            </p:nvSpPr>
            <p:spPr>
              <a:xfrm flipH="1" rot="20952000">
                <a:off x="5233680" y="23281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4" name=""/>
              <p:cNvSpPr/>
              <p:nvPr/>
            </p:nvSpPr>
            <p:spPr>
              <a:xfrm flipH="1" rot="20952000">
                <a:off x="5261040" y="23745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H="1" rot="20952000">
                <a:off x="5285880" y="23720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H="1" rot="20952000">
                <a:off x="5311080" y="23680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99200" y="23209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rot="20952000">
                <a:off x="5232240" y="233820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rot="20952000">
                <a:off x="5324400" y="25686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20952000">
                <a:off x="5291280" y="258588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20952000">
                <a:off x="5240160" y="23724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 name=""/>
              <p:cNvSpPr/>
              <p:nvPr/>
            </p:nvSpPr>
            <p:spPr>
              <a:xfrm flipH="1">
                <a:off x="5242320" y="23565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3" name=""/>
              <p:cNvSpPr/>
              <p:nvPr/>
            </p:nvSpPr>
            <p:spPr>
              <a:xfrm flipH="1">
                <a:off x="5236200" y="23457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4" name=""/>
              <p:cNvSpPr/>
              <p:nvPr/>
            </p:nvSpPr>
            <p:spPr>
              <a:xfrm flipH="1" rot="20952000">
                <a:off x="5229720" y="230904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85" name=""/>
              <p:cNvSpPr/>
              <p:nvPr/>
            </p:nvSpPr>
            <p:spPr>
              <a:xfrm>
                <a:off x="5291280" y="23709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264640" y="23745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H="1" rot="20952000">
                <a:off x="5329800" y="2567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flipH="1">
                <a:off x="5237640" y="23364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9" name=""/>
              <p:cNvSpPr/>
              <p:nvPr/>
            </p:nvSpPr>
            <p:spPr>
              <a:xfrm flipH="1" rot="20952000">
                <a:off x="5304240" y="25815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90" name=""/>
              <p:cNvSpPr/>
              <p:nvPr/>
            </p:nvSpPr>
            <p:spPr>
              <a:xfrm flipH="1" rot="20952000">
                <a:off x="5284440" y="25873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 name=""/>
              <p:cNvSpPr/>
              <p:nvPr/>
            </p:nvSpPr>
            <p:spPr>
              <a:xfrm flipH="1" rot="20952000">
                <a:off x="5317200" y="26380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92" name=""/>
              <p:cNvSpPr/>
              <p:nvPr/>
            </p:nvSpPr>
            <p:spPr>
              <a:xfrm flipH="1">
                <a:off x="5231520" y="23220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993" name=""/>
            <p:cNvSpPr/>
            <p:nvPr/>
          </p:nvSpPr>
          <p:spPr>
            <a:xfrm flipH="1">
              <a:off x="1989000" y="26622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997"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99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7"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7"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2"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03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040" name=""/>
          <p:cNvGrpSpPr/>
          <p:nvPr/>
        </p:nvGrpSpPr>
        <p:grpSpPr>
          <a:xfrm>
            <a:off x="1971720" y="1959120"/>
            <a:ext cx="3168720" cy="1303200"/>
            <a:chOff x="1971720" y="1959120"/>
            <a:chExt cx="3168720" cy="1303200"/>
          </a:xfrm>
        </p:grpSpPr>
        <p:grpSp>
          <p:nvGrpSpPr>
            <p:cNvPr id="1041" name=""/>
            <p:cNvGrpSpPr/>
            <p:nvPr/>
          </p:nvGrpSpPr>
          <p:grpSpPr>
            <a:xfrm>
              <a:off x="4829040" y="1959120"/>
              <a:ext cx="139680" cy="383760"/>
              <a:chOff x="4829040" y="1959120"/>
              <a:chExt cx="139680" cy="383760"/>
            </a:xfrm>
          </p:grpSpPr>
          <p:sp>
            <p:nvSpPr>
              <p:cNvPr id="1042" name=""/>
              <p:cNvSpPr/>
              <p:nvPr/>
            </p:nvSpPr>
            <p:spPr>
              <a:xfrm flipH="1" rot="20952000">
                <a:off x="4838760" y="20095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3" name=""/>
              <p:cNvSpPr/>
              <p:nvPr/>
            </p:nvSpPr>
            <p:spPr>
              <a:xfrm flipH="1" rot="20952000">
                <a:off x="4841280" y="2021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4" name=""/>
              <p:cNvSpPr/>
              <p:nvPr/>
            </p:nvSpPr>
            <p:spPr>
              <a:xfrm flipH="1" rot="20952000">
                <a:off x="4838040" y="20001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5" name=""/>
              <p:cNvSpPr/>
              <p:nvPr/>
            </p:nvSpPr>
            <p:spPr>
              <a:xfrm flipH="1" rot="20952000">
                <a:off x="4830120" y="19648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6" name=""/>
              <p:cNvSpPr/>
              <p:nvPr/>
            </p:nvSpPr>
            <p:spPr>
              <a:xfrm flipH="1" rot="20952000">
                <a:off x="4835160" y="1985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flipH="1" rot="20952000">
                <a:off x="4862520" y="20314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rot="20952000">
                <a:off x="4887360" y="20289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rot="20952000">
                <a:off x="4912560" y="20250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900680" y="19778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rot="20952000">
                <a:off x="4833720" y="1995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rot="20952000">
                <a:off x="4925880" y="2225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H="1" rot="20952000">
                <a:off x="4892760" y="2243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rot="20952000">
                <a:off x="4841640" y="20293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5" name=""/>
              <p:cNvSpPr/>
              <p:nvPr/>
            </p:nvSpPr>
            <p:spPr>
              <a:xfrm flipH="1">
                <a:off x="4843800" y="20134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56" name=""/>
              <p:cNvSpPr/>
              <p:nvPr/>
            </p:nvSpPr>
            <p:spPr>
              <a:xfrm flipH="1">
                <a:off x="4837680" y="20026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7" name=""/>
              <p:cNvSpPr/>
              <p:nvPr/>
            </p:nvSpPr>
            <p:spPr>
              <a:xfrm flipH="1" rot="20952000">
                <a:off x="4831200" y="19659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8" name=""/>
              <p:cNvSpPr/>
              <p:nvPr/>
            </p:nvSpPr>
            <p:spPr>
              <a:xfrm>
                <a:off x="4892760" y="20278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866120" y="20314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rot="20952000">
                <a:off x="4931280" y="22248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1" name=""/>
              <p:cNvSpPr/>
              <p:nvPr/>
            </p:nvSpPr>
            <p:spPr>
              <a:xfrm flipH="1">
                <a:off x="4839120" y="1993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flipH="1" rot="20952000">
                <a:off x="4905720" y="22388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63" name=""/>
              <p:cNvSpPr/>
              <p:nvPr/>
            </p:nvSpPr>
            <p:spPr>
              <a:xfrm flipH="1" rot="20952000">
                <a:off x="4885920" y="22446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 name=""/>
              <p:cNvSpPr/>
              <p:nvPr/>
            </p:nvSpPr>
            <p:spPr>
              <a:xfrm flipH="1" rot="20952000">
                <a:off x="4918680" y="22953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5" name=""/>
              <p:cNvSpPr/>
              <p:nvPr/>
            </p:nvSpPr>
            <p:spPr>
              <a:xfrm flipH="1">
                <a:off x="4833000" y="19789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066" name=""/>
            <p:cNvSpPr/>
            <p:nvPr/>
          </p:nvSpPr>
          <p:spPr>
            <a:xfrm flipH="1">
              <a:off x="1971720" y="231300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2"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10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110" name=""/>
          <p:cNvGrpSpPr/>
          <p:nvPr/>
        </p:nvGrpSpPr>
        <p:grpSpPr>
          <a:xfrm>
            <a:off x="1961640" y="1746720"/>
            <a:ext cx="3178440" cy="1524960"/>
            <a:chOff x="1961640" y="1746720"/>
            <a:chExt cx="3178440" cy="1524960"/>
          </a:xfrm>
        </p:grpSpPr>
        <p:grpSp>
          <p:nvGrpSpPr>
            <p:cNvPr id="1111" name=""/>
            <p:cNvGrpSpPr/>
            <p:nvPr/>
          </p:nvGrpSpPr>
          <p:grpSpPr>
            <a:xfrm>
              <a:off x="4348080" y="1746720"/>
              <a:ext cx="139680" cy="383400"/>
              <a:chOff x="4348080" y="1746720"/>
              <a:chExt cx="139680" cy="383400"/>
            </a:xfrm>
          </p:grpSpPr>
          <p:sp>
            <p:nvSpPr>
              <p:cNvPr id="1112" name=""/>
              <p:cNvSpPr/>
              <p:nvPr/>
            </p:nvSpPr>
            <p:spPr>
              <a:xfrm flipH="1" rot="20952000">
                <a:off x="4357800" y="17971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flipH="1" rot="20952000">
                <a:off x="4360320" y="1808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flipH="1" rot="20952000">
                <a:off x="4357080" y="17877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flipH="1" rot="20952000">
                <a:off x="4349160" y="17524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6" name=""/>
              <p:cNvSpPr/>
              <p:nvPr/>
            </p:nvSpPr>
            <p:spPr>
              <a:xfrm flipH="1" rot="20952000">
                <a:off x="4354200" y="17726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flipH="1" rot="20952000">
                <a:off x="4381560" y="1819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rot="20952000">
                <a:off x="4406400" y="18165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rot="20952000">
                <a:off x="4431600" y="181260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419720" y="1765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rot="20952000">
                <a:off x="4352760" y="178272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rot="20952000">
                <a:off x="4444920" y="201312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rot="20952000">
                <a:off x="4411800" y="2030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rot="20952000">
                <a:off x="4360680" y="18169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5" name=""/>
              <p:cNvSpPr/>
              <p:nvPr/>
            </p:nvSpPr>
            <p:spPr>
              <a:xfrm flipH="1">
                <a:off x="4362840" y="18010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6" name=""/>
              <p:cNvSpPr/>
              <p:nvPr/>
            </p:nvSpPr>
            <p:spPr>
              <a:xfrm flipH="1">
                <a:off x="4356720" y="17902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7" name=""/>
              <p:cNvSpPr/>
              <p:nvPr/>
            </p:nvSpPr>
            <p:spPr>
              <a:xfrm flipH="1" rot="20952000">
                <a:off x="4350240" y="17535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28" name=""/>
              <p:cNvSpPr/>
              <p:nvPr/>
            </p:nvSpPr>
            <p:spPr>
              <a:xfrm>
                <a:off x="4411800" y="181548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4385160" y="181908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rot="20952000">
                <a:off x="4450320" y="201204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1" name=""/>
              <p:cNvSpPr/>
              <p:nvPr/>
            </p:nvSpPr>
            <p:spPr>
              <a:xfrm flipH="1">
                <a:off x="4358160" y="17809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
              <p:cNvSpPr/>
              <p:nvPr/>
            </p:nvSpPr>
            <p:spPr>
              <a:xfrm flipH="1" rot="20952000">
                <a:off x="4424760" y="202608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3" name=""/>
              <p:cNvSpPr/>
              <p:nvPr/>
            </p:nvSpPr>
            <p:spPr>
              <a:xfrm flipH="1" rot="20952000">
                <a:off x="4404960" y="20318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4" name=""/>
              <p:cNvSpPr/>
              <p:nvPr/>
            </p:nvSpPr>
            <p:spPr>
              <a:xfrm flipH="1" rot="20952000">
                <a:off x="4437720" y="208260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35" name=""/>
              <p:cNvSpPr/>
              <p:nvPr/>
            </p:nvSpPr>
            <p:spPr>
              <a:xfrm flipH="1">
                <a:off x="4352040" y="17665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136" name=""/>
            <p:cNvSpPr/>
            <p:nvPr/>
          </p:nvSpPr>
          <p:spPr>
            <a:xfrm flipH="1">
              <a:off x="1961280" y="2103480"/>
              <a:ext cx="317844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6"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3"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180"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181" name=""/>
          <p:cNvGrpSpPr/>
          <p:nvPr/>
        </p:nvGrpSpPr>
        <p:grpSpPr>
          <a:xfrm>
            <a:off x="1971360" y="1629000"/>
            <a:ext cx="3159000" cy="1642680"/>
            <a:chOff x="1971360" y="1629000"/>
            <a:chExt cx="3159000" cy="1642680"/>
          </a:xfrm>
        </p:grpSpPr>
        <p:grpSp>
          <p:nvGrpSpPr>
            <p:cNvPr id="1182" name=""/>
            <p:cNvGrpSpPr/>
            <p:nvPr/>
          </p:nvGrpSpPr>
          <p:grpSpPr>
            <a:xfrm>
              <a:off x="3871800" y="1629000"/>
              <a:ext cx="139680" cy="383760"/>
              <a:chOff x="3871800" y="1629000"/>
              <a:chExt cx="139680" cy="383760"/>
            </a:xfrm>
          </p:grpSpPr>
          <p:sp>
            <p:nvSpPr>
              <p:cNvPr id="1183" name=""/>
              <p:cNvSpPr/>
              <p:nvPr/>
            </p:nvSpPr>
            <p:spPr>
              <a:xfrm flipH="1" rot="20952000">
                <a:off x="3881520" y="1679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4" name=""/>
              <p:cNvSpPr/>
              <p:nvPr/>
            </p:nvSpPr>
            <p:spPr>
              <a:xfrm flipH="1" rot="20952000">
                <a:off x="3884040" y="16909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5" name=""/>
              <p:cNvSpPr/>
              <p:nvPr/>
            </p:nvSpPr>
            <p:spPr>
              <a:xfrm flipH="1" rot="20952000">
                <a:off x="3880800" y="1670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6" name=""/>
              <p:cNvSpPr/>
              <p:nvPr/>
            </p:nvSpPr>
            <p:spPr>
              <a:xfrm flipH="1" rot="20952000">
                <a:off x="3872880" y="1634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flipH="1" rot="20952000">
                <a:off x="3877920" y="16549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8" name=""/>
              <p:cNvSpPr/>
              <p:nvPr/>
            </p:nvSpPr>
            <p:spPr>
              <a:xfrm flipH="1" rot="20952000">
                <a:off x="3905280" y="17013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rot="20952000">
                <a:off x="3930120" y="16988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rot="20952000">
                <a:off x="3955320" y="169488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943440" y="16477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rot="20952000">
                <a:off x="3876480" y="166500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rot="20952000">
                <a:off x="3968640" y="18957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rot="20952000">
                <a:off x="3935520" y="191304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rot="20952000">
                <a:off x="3884400" y="1699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6" name=""/>
              <p:cNvSpPr/>
              <p:nvPr/>
            </p:nvSpPr>
            <p:spPr>
              <a:xfrm flipH="1">
                <a:off x="3886560" y="16833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flipH="1">
                <a:off x="3880440" y="16725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8" name=""/>
              <p:cNvSpPr/>
              <p:nvPr/>
            </p:nvSpPr>
            <p:spPr>
              <a:xfrm flipH="1" rot="20952000">
                <a:off x="3873960" y="163584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99" name=""/>
              <p:cNvSpPr/>
              <p:nvPr/>
            </p:nvSpPr>
            <p:spPr>
              <a:xfrm>
                <a:off x="3935520" y="169776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908880" y="17013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rot="20952000">
                <a:off x="3974040" y="18946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2" name=""/>
              <p:cNvSpPr/>
              <p:nvPr/>
            </p:nvSpPr>
            <p:spPr>
              <a:xfrm flipH="1">
                <a:off x="3881880" y="16632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3" name=""/>
              <p:cNvSpPr/>
              <p:nvPr/>
            </p:nvSpPr>
            <p:spPr>
              <a:xfrm flipH="1" rot="20952000">
                <a:off x="3948480" y="1908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4" name=""/>
              <p:cNvSpPr/>
              <p:nvPr/>
            </p:nvSpPr>
            <p:spPr>
              <a:xfrm flipH="1" rot="20952000">
                <a:off x="3928680" y="19144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 name=""/>
              <p:cNvSpPr/>
              <p:nvPr/>
            </p:nvSpPr>
            <p:spPr>
              <a:xfrm flipH="1" rot="20952000">
                <a:off x="3961440" y="19652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6" name=""/>
              <p:cNvSpPr/>
              <p:nvPr/>
            </p:nvSpPr>
            <p:spPr>
              <a:xfrm flipH="1">
                <a:off x="3875760" y="16488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207" name=""/>
            <p:cNvSpPr/>
            <p:nvPr/>
          </p:nvSpPr>
          <p:spPr>
            <a:xfrm flipH="1">
              <a:off x="1971000" y="200484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7"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7"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35560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1"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248"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249" name=""/>
          <p:cNvGrpSpPr/>
          <p:nvPr/>
        </p:nvGrpSpPr>
        <p:grpSpPr>
          <a:xfrm>
            <a:off x="1987560" y="1614960"/>
            <a:ext cx="3149640" cy="1647360"/>
            <a:chOff x="1987560" y="1614960"/>
            <a:chExt cx="3149640" cy="1647360"/>
          </a:xfrm>
        </p:grpSpPr>
        <p:grpSp>
          <p:nvGrpSpPr>
            <p:cNvPr id="1250" name=""/>
            <p:cNvGrpSpPr/>
            <p:nvPr/>
          </p:nvGrpSpPr>
          <p:grpSpPr>
            <a:xfrm>
              <a:off x="3532680" y="1614960"/>
              <a:ext cx="139320" cy="383400"/>
              <a:chOff x="3532680" y="1614960"/>
              <a:chExt cx="139320" cy="383400"/>
            </a:xfrm>
          </p:grpSpPr>
          <p:sp>
            <p:nvSpPr>
              <p:cNvPr id="1251" name=""/>
              <p:cNvSpPr/>
              <p:nvPr/>
            </p:nvSpPr>
            <p:spPr>
              <a:xfrm rot="648000">
                <a:off x="3593880" y="16653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2" name=""/>
              <p:cNvSpPr/>
              <p:nvPr/>
            </p:nvSpPr>
            <p:spPr>
              <a:xfrm rot="648000">
                <a:off x="3593520" y="1676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3" name=""/>
              <p:cNvSpPr/>
              <p:nvPr/>
            </p:nvSpPr>
            <p:spPr>
              <a:xfrm rot="648000">
                <a:off x="3596760" y="1656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4" name=""/>
              <p:cNvSpPr/>
              <p:nvPr/>
            </p:nvSpPr>
            <p:spPr>
              <a:xfrm rot="648000">
                <a:off x="3603240" y="16210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rot="648000">
                <a:off x="3598200" y="16408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6" name=""/>
              <p:cNvSpPr/>
              <p:nvPr/>
            </p:nvSpPr>
            <p:spPr>
              <a:xfrm rot="648000">
                <a:off x="3613680" y="16873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rot="648000">
                <a:off x="3587760" y="168480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rot="648000">
                <a:off x="3572280" y="168084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3552840" y="163368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rot="648000">
                <a:off x="3642480" y="164844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rot="648000">
                <a:off x="3542400" y="18813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rot="648000">
                <a:off x="3576240" y="189864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rot="648000">
                <a:off x="3591000" y="16851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a:off x="3593880" y="16693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5" name=""/>
              <p:cNvSpPr/>
              <p:nvPr/>
            </p:nvSpPr>
            <p:spPr>
              <a:xfrm>
                <a:off x="3595680" y="165852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6" name=""/>
              <p:cNvSpPr/>
              <p:nvPr/>
            </p:nvSpPr>
            <p:spPr>
              <a:xfrm rot="648000">
                <a:off x="3602160" y="16221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67" name=""/>
              <p:cNvSpPr/>
              <p:nvPr/>
            </p:nvSpPr>
            <p:spPr>
              <a:xfrm flipH="1">
                <a:off x="3568680" y="168372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a:off x="3594600" y="1687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648000">
                <a:off x="3551760" y="18802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0" name=""/>
              <p:cNvSpPr/>
              <p:nvPr/>
            </p:nvSpPr>
            <p:spPr>
              <a:xfrm>
                <a:off x="3596760" y="16491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1" name=""/>
              <p:cNvSpPr/>
              <p:nvPr/>
            </p:nvSpPr>
            <p:spPr>
              <a:xfrm rot="648000">
                <a:off x="3567960" y="189432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2" name=""/>
              <p:cNvSpPr/>
              <p:nvPr/>
            </p:nvSpPr>
            <p:spPr>
              <a:xfrm rot="648000">
                <a:off x="3592080" y="19000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 name=""/>
              <p:cNvSpPr/>
              <p:nvPr/>
            </p:nvSpPr>
            <p:spPr>
              <a:xfrm rot="648000">
                <a:off x="3558600" y="19508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4" name=""/>
              <p:cNvSpPr/>
              <p:nvPr/>
            </p:nvSpPr>
            <p:spPr>
              <a:xfrm>
                <a:off x="3600000" y="16347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275" name=""/>
            <p:cNvSpPr/>
            <p:nvPr/>
          </p:nvSpPr>
          <p:spPr>
            <a:xfrm>
              <a:off x="1987560" y="1978200"/>
              <a:ext cx="3149640" cy="128412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1558800" y="1990800"/>
            <a:ext cx="3998880" cy="2579760"/>
          </a:xfrm>
          <a:prstGeom prst="ellipse">
            <a:avLst/>
          </a:prstGeom>
          <a:gradFill rotWithShape="0">
            <a:gsLst>
              <a:gs pos="0">
                <a:srgbClr val="c79f4f"/>
              </a:gs>
              <a:gs pos="50000">
                <a:srgbClr val="ffcc66"/>
              </a:gs>
              <a:gs pos="100000">
                <a:srgbClr val="c79f4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1447560" y="1801440"/>
            <a:ext cx="4216680" cy="2833560"/>
            <a:chOff x="1447560" y="1801440"/>
            <a:chExt cx="4216680" cy="2833560"/>
          </a:xfrm>
        </p:grpSpPr>
        <p:sp>
          <p:nvSpPr>
            <p:cNvPr id="127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5"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3"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35560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7"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1"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6113520" y="2058840"/>
            <a:ext cx="27255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have created the perfect ellips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a band saw or jig saw to cut the shape clean up the edges with a spoke shave, compass plane or disc sander and make a router template.</a:t>
            </a:r>
            <a:endParaRPr b="0" lang="en-US" sz="1800" spc="-1" strike="noStrike">
              <a:solidFill>
                <a:srgbClr val="000000"/>
              </a:solidFill>
              <a:latin typeface="Times New Roman"/>
            </a:endParaRPr>
          </a:p>
        </p:txBody>
      </p:sp>
      <p:sp>
        <p:nvSpPr>
          <p:cNvPr id="131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77"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8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2"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3"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1882800"/>
            <a:ext cx="2008440" cy="1398600"/>
          </a:xfrm>
          <a:custGeom>
            <a:avLst/>
            <a:gdLst/>
            <a:ahLst/>
            <a:rect l="l" t="t" r="r" b="b"/>
            <a:pathLst>
              <a:path w="1265" h="881">
                <a:moveTo>
                  <a:pt x="0" y="881"/>
                </a:moveTo>
                <a:lnTo>
                  <a:pt x="632" y="0"/>
                </a:lnTo>
                <a:lnTo>
                  <a:pt x="1265" y="881"/>
                </a:lnTo>
                <a:lnTo>
                  <a:pt x="632" y="135"/>
                </a:lnTo>
                <a:lnTo>
                  <a:pt x="0" y="881"/>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29080" y="1573200"/>
            <a:ext cx="1671480" cy="1703520"/>
          </a:xfrm>
          <a:custGeom>
            <a:avLst/>
            <a:gdLst/>
            <a:ahLst/>
            <a:rect l="l" t="t" r="r" b="b"/>
            <a:pathLst>
              <a:path w="1053" h="1073">
                <a:moveTo>
                  <a:pt x="0" y="257"/>
                </a:moveTo>
                <a:lnTo>
                  <a:pt x="1053" y="0"/>
                </a:lnTo>
                <a:lnTo>
                  <a:pt x="993" y="1073"/>
                </a:lnTo>
                <a:lnTo>
                  <a:pt x="965" y="103"/>
                </a:lnTo>
                <a:lnTo>
                  <a:pt x="0" y="257"/>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55800" y="1565280"/>
            <a:ext cx="1671480" cy="1698480"/>
          </a:xfrm>
          <a:custGeom>
            <a:avLst/>
            <a:gdLst/>
            <a:ahLst/>
            <a:rect l="l" t="t" r="r" b="b"/>
            <a:pathLst>
              <a:path w="1053" h="1070">
                <a:moveTo>
                  <a:pt x="1053" y="257"/>
                </a:moveTo>
                <a:lnTo>
                  <a:pt x="0" y="0"/>
                </a:lnTo>
                <a:lnTo>
                  <a:pt x="63" y="1070"/>
                </a:lnTo>
                <a:lnTo>
                  <a:pt x="88" y="103"/>
                </a:lnTo>
                <a:lnTo>
                  <a:pt x="1053" y="257"/>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1" name=""/>
          <p:cNvSpPr/>
          <p:nvPr/>
        </p:nvSpPr>
        <p:spPr>
          <a:xfrm>
            <a:off x="6292800" y="146988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Set the compass to ½ the “X” axis</a:t>
            </a:r>
            <a:endParaRPr b="0" lang="en-US" sz="1800" spc="-1" strike="noStrike">
              <a:solidFill>
                <a:srgbClr val="000000"/>
              </a:solidFill>
              <a:latin typeface="Times New Roman"/>
            </a:endParaRPr>
          </a:p>
        </p:txBody>
      </p:sp>
      <p:sp>
        <p:nvSpPr>
          <p:cNvPr id="92" name=""/>
          <p:cNvSpPr/>
          <p:nvPr/>
        </p:nvSpPr>
        <p:spPr>
          <a:xfrm>
            <a:off x="6288120" y="31590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Move the compass to the Y point and mark of the distance along the X axi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95"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98"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00"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01"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5116680" y="2809440"/>
            <a:ext cx="0" cy="46692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955880" y="2803680"/>
            <a:ext cx="0" cy="4665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530520" y="1544760"/>
            <a:ext cx="169920" cy="43488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Place small nails or pins at points F1, F2 and C</a:t>
            </a:r>
            <a:endParaRPr b="0" lang="en-US" sz="1800" spc="-1" strike="noStrike">
              <a:solidFill>
                <a:srgbClr val="000000"/>
              </a:solidFill>
              <a:latin typeface="Times New Roman"/>
            </a:endParaRPr>
          </a:p>
        </p:txBody>
      </p:sp>
      <p:sp>
        <p:nvSpPr>
          <p:cNvPr id="109" name=""/>
          <p:cNvSpPr/>
          <p:nvPr/>
        </p:nvSpPr>
        <p:spPr>
          <a:xfrm>
            <a:off x="6300720" y="2549520"/>
            <a:ext cx="243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Tie a piece of string, (builders line is best) to the nail at F1.</a:t>
            </a:r>
            <a:endParaRPr b="0" lang="en-US" sz="1800" spc="-1" strike="noStrike">
              <a:solidFill>
                <a:srgbClr val="000000"/>
              </a:solidFill>
              <a:latin typeface="Times New Roman"/>
            </a:endParaRPr>
          </a:p>
        </p:txBody>
      </p:sp>
      <p:sp>
        <p:nvSpPr>
          <p:cNvPr id="110" name=""/>
          <p:cNvSpPr/>
          <p:nvPr/>
        </p:nvSpPr>
        <p:spPr>
          <a:xfrm>
            <a:off x="1852560" y="2225520"/>
            <a:ext cx="878040" cy="1055880"/>
          </a:xfrm>
          <a:custGeom>
            <a:avLst/>
            <a:gdLst/>
            <a:ahLst/>
            <a:rect l="l" t="t" r="r" b="b"/>
            <a:pathLst>
              <a:path w="553" h="665">
                <a:moveTo>
                  <a:pt x="30" y="606"/>
                </a:moveTo>
                <a:cubicBezTo>
                  <a:pt x="45" y="665"/>
                  <a:pt x="78" y="645"/>
                  <a:pt x="129" y="637"/>
                </a:cubicBezTo>
                <a:cubicBezTo>
                  <a:pt x="126" y="622"/>
                  <a:pt x="129" y="605"/>
                  <a:pt x="121" y="591"/>
                </a:cubicBezTo>
                <a:cubicBezTo>
                  <a:pt x="117" y="584"/>
                  <a:pt x="106" y="587"/>
                  <a:pt x="99" y="584"/>
                </a:cubicBezTo>
                <a:cubicBezTo>
                  <a:pt x="56" y="568"/>
                  <a:pt x="69" y="575"/>
                  <a:pt x="38" y="553"/>
                </a:cubicBezTo>
                <a:cubicBezTo>
                  <a:pt x="3" y="565"/>
                  <a:pt x="12" y="573"/>
                  <a:pt x="0" y="606"/>
                </a:cubicBezTo>
                <a:cubicBezTo>
                  <a:pt x="10" y="634"/>
                  <a:pt x="25" y="639"/>
                  <a:pt x="46" y="659"/>
                </a:cubicBezTo>
                <a:cubicBezTo>
                  <a:pt x="74" y="657"/>
                  <a:pt x="103" y="661"/>
                  <a:pt x="129" y="652"/>
                </a:cubicBezTo>
                <a:cubicBezTo>
                  <a:pt x="137" y="649"/>
                  <a:pt x="137" y="637"/>
                  <a:pt x="137" y="629"/>
                </a:cubicBezTo>
                <a:cubicBezTo>
                  <a:pt x="137" y="565"/>
                  <a:pt x="132" y="513"/>
                  <a:pt x="114" y="455"/>
                </a:cubicBezTo>
                <a:cubicBezTo>
                  <a:pt x="120" y="406"/>
                  <a:pt x="118" y="387"/>
                  <a:pt x="144" y="349"/>
                </a:cubicBezTo>
                <a:cubicBezTo>
                  <a:pt x="157" y="300"/>
                  <a:pt x="146" y="328"/>
                  <a:pt x="182" y="273"/>
                </a:cubicBezTo>
                <a:cubicBezTo>
                  <a:pt x="187" y="265"/>
                  <a:pt x="188" y="252"/>
                  <a:pt x="197" y="250"/>
                </a:cubicBezTo>
                <a:cubicBezTo>
                  <a:pt x="207" y="248"/>
                  <a:pt x="218" y="246"/>
                  <a:pt x="228" y="243"/>
                </a:cubicBezTo>
                <a:cubicBezTo>
                  <a:pt x="243" y="238"/>
                  <a:pt x="273" y="227"/>
                  <a:pt x="273" y="227"/>
                </a:cubicBezTo>
                <a:cubicBezTo>
                  <a:pt x="283" y="212"/>
                  <a:pt x="293" y="197"/>
                  <a:pt x="303" y="182"/>
                </a:cubicBezTo>
                <a:cubicBezTo>
                  <a:pt x="315" y="164"/>
                  <a:pt x="338" y="156"/>
                  <a:pt x="356" y="144"/>
                </a:cubicBezTo>
                <a:cubicBezTo>
                  <a:pt x="401" y="113"/>
                  <a:pt x="425" y="99"/>
                  <a:pt x="462" y="61"/>
                </a:cubicBezTo>
                <a:cubicBezTo>
                  <a:pt x="468" y="55"/>
                  <a:pt x="478" y="57"/>
                  <a:pt x="485" y="53"/>
                </a:cubicBezTo>
                <a:cubicBezTo>
                  <a:pt x="501" y="44"/>
                  <a:pt x="518" y="36"/>
                  <a:pt x="531" y="23"/>
                </a:cubicBezTo>
                <a:cubicBezTo>
                  <a:pt x="538" y="15"/>
                  <a:pt x="553" y="0"/>
                  <a:pt x="553" y="0"/>
                </a:cubicBezTo>
              </a:path>
            </a:pathLst>
          </a:custGeom>
          <a:noFill/>
          <a:ln w="2844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46440" y="3460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1</a:t>
            </a:r>
            <a:endParaRPr b="0" lang="en-US" sz="1400" spc="-1" strike="noStrike">
              <a:solidFill>
                <a:srgbClr val="000000"/>
              </a:solidFill>
              <a:latin typeface="Times New Roman"/>
            </a:endParaRPr>
          </a:p>
        </p:txBody>
      </p:sp>
      <p:sp>
        <p:nvSpPr>
          <p:cNvPr id="112" name=""/>
          <p:cNvSpPr/>
          <p:nvPr/>
        </p:nvSpPr>
        <p:spPr>
          <a:xfrm>
            <a:off x="4900680" y="34369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2</a:t>
            </a:r>
            <a:endParaRPr b="0" lang="en-US" sz="1400" spc="-1" strike="noStrike">
              <a:solidFill>
                <a:srgbClr val="000000"/>
              </a:solidFill>
              <a:latin typeface="Times New Roman"/>
            </a:endParaRPr>
          </a:p>
        </p:txBody>
      </p:sp>
      <p:sp>
        <p:nvSpPr>
          <p:cNvPr id="113" name=""/>
          <p:cNvSpPr/>
          <p:nvPr/>
        </p:nvSpPr>
        <p:spPr>
          <a:xfrm>
            <a:off x="3201840" y="17226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1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17"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2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22"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23"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116680" y="2809440"/>
            <a:ext cx="0" cy="46692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955880" y="2803680"/>
            <a:ext cx="0" cy="4665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530520" y="1544760"/>
            <a:ext cx="169920" cy="43488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88120" y="136836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8. Take the string around C and to F2 and tie off making sure it is stretched reasonably tight. </a:t>
            </a:r>
            <a:endParaRPr b="0" lang="en-US" sz="1800" spc="-1" strike="noStrike">
              <a:solidFill>
                <a:srgbClr val="000000"/>
              </a:solidFill>
              <a:latin typeface="Times New Roman"/>
            </a:endParaRPr>
          </a:p>
        </p:txBody>
      </p:sp>
      <p:sp>
        <p:nvSpPr>
          <p:cNvPr id="131" name=""/>
          <p:cNvSpPr/>
          <p:nvPr/>
        </p:nvSpPr>
        <p:spPr>
          <a:xfrm flipV="1">
            <a:off x="1954080" y="1971720"/>
            <a:ext cx="1578240" cy="130968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32320" y="1971720"/>
            <a:ext cx="1577880" cy="130968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1360" y="3156120"/>
            <a:ext cx="2224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tight and it will pull the nails ou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6294600" y="3855960"/>
            <a:ext cx="204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loose and the ellipse will be the too big</a:t>
            </a:r>
            <a:endParaRPr b="0" lang="en-US" sz="1800" spc="-1" strike="noStrike">
              <a:solidFill>
                <a:srgbClr val="000000"/>
              </a:solidFill>
              <a:latin typeface="Times New Roman"/>
            </a:endParaRPr>
          </a:p>
        </p:txBody>
      </p:sp>
      <p:sp>
        <p:nvSpPr>
          <p:cNvPr id="135" name=""/>
          <p:cNvSpPr/>
          <p:nvPr/>
        </p:nvSpPr>
        <p:spPr>
          <a:xfrm>
            <a:off x="1846440" y="3460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1</a:t>
            </a:r>
            <a:endParaRPr b="0" lang="en-US" sz="1400" spc="-1" strike="noStrike">
              <a:solidFill>
                <a:srgbClr val="000000"/>
              </a:solidFill>
              <a:latin typeface="Times New Roman"/>
            </a:endParaRPr>
          </a:p>
        </p:txBody>
      </p:sp>
      <p:sp>
        <p:nvSpPr>
          <p:cNvPr id="136" name=""/>
          <p:cNvSpPr/>
          <p:nvPr/>
        </p:nvSpPr>
        <p:spPr>
          <a:xfrm>
            <a:off x="4900680" y="34369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2</a:t>
            </a:r>
            <a:endParaRPr b="0" lang="en-US" sz="1400" spc="-1" strike="noStrike">
              <a:solidFill>
                <a:srgbClr val="000000"/>
              </a:solidFill>
              <a:latin typeface="Times New Roman"/>
            </a:endParaRPr>
          </a:p>
        </p:txBody>
      </p:sp>
      <p:sp>
        <p:nvSpPr>
          <p:cNvPr id="137" name=""/>
          <p:cNvSpPr/>
          <p:nvPr/>
        </p:nvSpPr>
        <p:spPr>
          <a:xfrm>
            <a:off x="3201840" y="17226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41"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44"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4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4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3500640" y="1629000"/>
            <a:ext cx="139320" cy="383760"/>
            <a:chOff x="3500640" y="1629000"/>
            <a:chExt cx="139320" cy="383760"/>
          </a:xfrm>
        </p:grpSpPr>
        <p:sp>
          <p:nvSpPr>
            <p:cNvPr id="152" name=""/>
            <p:cNvSpPr/>
            <p:nvPr/>
          </p:nvSpPr>
          <p:spPr>
            <a:xfrm rot="648000">
              <a:off x="3561840" y="1679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
            <p:cNvSpPr/>
            <p:nvPr/>
          </p:nvSpPr>
          <p:spPr>
            <a:xfrm rot="648000">
              <a:off x="3561480" y="16909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4" name=""/>
            <p:cNvSpPr/>
            <p:nvPr/>
          </p:nvSpPr>
          <p:spPr>
            <a:xfrm rot="648000">
              <a:off x="3564720" y="1670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rot="648000">
              <a:off x="3571200" y="1635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 name=""/>
            <p:cNvSpPr/>
            <p:nvPr/>
          </p:nvSpPr>
          <p:spPr>
            <a:xfrm rot="648000">
              <a:off x="3566160" y="16549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 name=""/>
            <p:cNvSpPr/>
            <p:nvPr/>
          </p:nvSpPr>
          <p:spPr>
            <a:xfrm rot="648000">
              <a:off x="3581640" y="17013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648000">
              <a:off x="3555720" y="16988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648000">
              <a:off x="3540240" y="169488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520800" y="16477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648000">
              <a:off x="3610440" y="166248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648000">
              <a:off x="3510360" y="18957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648000">
              <a:off x="3544200" y="191304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648000">
              <a:off x="3558960" y="1699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 name=""/>
            <p:cNvSpPr/>
            <p:nvPr/>
          </p:nvSpPr>
          <p:spPr>
            <a:xfrm>
              <a:off x="3561840" y="16833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6" name=""/>
            <p:cNvSpPr/>
            <p:nvPr/>
          </p:nvSpPr>
          <p:spPr>
            <a:xfrm>
              <a:off x="3563640" y="16725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7" name=""/>
            <p:cNvSpPr/>
            <p:nvPr/>
          </p:nvSpPr>
          <p:spPr>
            <a:xfrm rot="648000">
              <a:off x="3570120" y="16362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8" name=""/>
            <p:cNvSpPr/>
            <p:nvPr/>
          </p:nvSpPr>
          <p:spPr>
            <a:xfrm flipH="1">
              <a:off x="3536640" y="169776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62560" y="17013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648000">
              <a:off x="3519720" y="18946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3564720" y="16632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 name=""/>
            <p:cNvSpPr/>
            <p:nvPr/>
          </p:nvSpPr>
          <p:spPr>
            <a:xfrm rot="648000">
              <a:off x="3535920" y="1908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 name=""/>
            <p:cNvSpPr/>
            <p:nvPr/>
          </p:nvSpPr>
          <p:spPr>
            <a:xfrm rot="648000">
              <a:off x="3560040" y="19144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 name=""/>
            <p:cNvSpPr/>
            <p:nvPr/>
          </p:nvSpPr>
          <p:spPr>
            <a:xfrm rot="648000">
              <a:off x="3526560" y="19652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3567960" y="16488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76" name=""/>
          <p:cNvSpPr/>
          <p:nvPr/>
        </p:nvSpPr>
        <p:spPr>
          <a:xfrm>
            <a:off x="1955880" y="1992240"/>
            <a:ext cx="3149640" cy="128448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7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81"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84"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8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8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2"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93" name=""/>
          <p:cNvSpPr/>
          <p:nvPr/>
        </p:nvSpPr>
        <p:spPr>
          <a:xfrm>
            <a:off x="6288120" y="2435400"/>
            <a:ext cx="2438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or right. In this example we have gone left.</a:t>
            </a:r>
            <a:endParaRPr b="0" lang="en-US" sz="1800" spc="-1" strike="noStrike">
              <a:solidFill>
                <a:srgbClr val="000000"/>
              </a:solidFill>
              <a:latin typeface="Times New Roman"/>
            </a:endParaRPr>
          </a:p>
        </p:txBody>
      </p:sp>
      <p:grpSp>
        <p:nvGrpSpPr>
          <p:cNvPr id="194" name=""/>
          <p:cNvGrpSpPr/>
          <p:nvPr/>
        </p:nvGrpSpPr>
        <p:grpSpPr>
          <a:xfrm>
            <a:off x="1955880" y="1643400"/>
            <a:ext cx="3159000" cy="1642680"/>
            <a:chOff x="1955880" y="1643400"/>
            <a:chExt cx="3159000" cy="1642680"/>
          </a:xfrm>
        </p:grpSpPr>
        <p:grpSp>
          <p:nvGrpSpPr>
            <p:cNvPr id="195" name=""/>
            <p:cNvGrpSpPr/>
            <p:nvPr/>
          </p:nvGrpSpPr>
          <p:grpSpPr>
            <a:xfrm>
              <a:off x="3075480" y="1643400"/>
              <a:ext cx="139320" cy="383400"/>
              <a:chOff x="3075480" y="1643400"/>
              <a:chExt cx="139320" cy="383400"/>
            </a:xfrm>
          </p:grpSpPr>
          <p:sp>
            <p:nvSpPr>
              <p:cNvPr id="196" name=""/>
              <p:cNvSpPr/>
              <p:nvPr/>
            </p:nvSpPr>
            <p:spPr>
              <a:xfrm rot="648000">
                <a:off x="3136680" y="16938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rot="648000">
                <a:off x="3136320" y="17053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 name=""/>
              <p:cNvSpPr/>
              <p:nvPr/>
            </p:nvSpPr>
            <p:spPr>
              <a:xfrm rot="648000">
                <a:off x="3139560" y="1684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 name=""/>
              <p:cNvSpPr/>
              <p:nvPr/>
            </p:nvSpPr>
            <p:spPr>
              <a:xfrm rot="648000">
                <a:off x="3146040" y="16495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rot="648000">
                <a:off x="3141000" y="16693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rot="648000">
                <a:off x="3156480" y="17157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648000">
                <a:off x="3130560" y="17132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648000">
                <a:off x="3115080" y="17092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095640" y="16621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648000">
                <a:off x="3185280" y="167688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648000">
                <a:off x="3085200" y="19098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648000">
                <a:off x="3119040" y="192708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48000">
                <a:off x="3133800" y="17136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 name=""/>
              <p:cNvSpPr/>
              <p:nvPr/>
            </p:nvSpPr>
            <p:spPr>
              <a:xfrm>
                <a:off x="3136680" y="16977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 name=""/>
              <p:cNvSpPr/>
              <p:nvPr/>
            </p:nvSpPr>
            <p:spPr>
              <a:xfrm>
                <a:off x="3138480" y="1686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rot="648000">
                <a:off x="3144960" y="16506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2" name=""/>
              <p:cNvSpPr/>
              <p:nvPr/>
            </p:nvSpPr>
            <p:spPr>
              <a:xfrm flipH="1">
                <a:off x="3111480" y="17121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3137400" y="17157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648000">
                <a:off x="3094560" y="1908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3139560" y="16776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 name=""/>
              <p:cNvSpPr/>
              <p:nvPr/>
            </p:nvSpPr>
            <p:spPr>
              <a:xfrm rot="648000">
                <a:off x="3110760" y="19227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 name=""/>
              <p:cNvSpPr/>
              <p:nvPr/>
            </p:nvSpPr>
            <p:spPr>
              <a:xfrm rot="648000">
                <a:off x="3134880" y="19285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8" name=""/>
              <p:cNvSpPr/>
              <p:nvPr/>
            </p:nvSpPr>
            <p:spPr>
              <a:xfrm rot="648000">
                <a:off x="3101400" y="19792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9" name=""/>
              <p:cNvSpPr/>
              <p:nvPr/>
            </p:nvSpPr>
            <p:spPr>
              <a:xfrm>
                <a:off x="3142800" y="16632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20" name=""/>
            <p:cNvSpPr/>
            <p:nvPr/>
          </p:nvSpPr>
          <p:spPr>
            <a:xfrm>
              <a:off x="1955880" y="201924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24"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27"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29"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30"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237"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238" name=""/>
          <p:cNvGrpSpPr/>
          <p:nvPr/>
        </p:nvGrpSpPr>
        <p:grpSpPr>
          <a:xfrm>
            <a:off x="1946160" y="1760760"/>
            <a:ext cx="3178440" cy="1525320"/>
            <a:chOff x="1946160" y="1760760"/>
            <a:chExt cx="3178440" cy="1525320"/>
          </a:xfrm>
        </p:grpSpPr>
        <p:grpSp>
          <p:nvGrpSpPr>
            <p:cNvPr id="239" name=""/>
            <p:cNvGrpSpPr/>
            <p:nvPr/>
          </p:nvGrpSpPr>
          <p:grpSpPr>
            <a:xfrm>
              <a:off x="2599200" y="1760760"/>
              <a:ext cx="139320" cy="383760"/>
              <a:chOff x="2599200" y="1760760"/>
              <a:chExt cx="139320" cy="383760"/>
            </a:xfrm>
          </p:grpSpPr>
          <p:sp>
            <p:nvSpPr>
              <p:cNvPr id="240" name=""/>
              <p:cNvSpPr/>
              <p:nvPr/>
            </p:nvSpPr>
            <p:spPr>
              <a:xfrm rot="648000">
                <a:off x="2660400" y="18111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 name=""/>
              <p:cNvSpPr/>
              <p:nvPr/>
            </p:nvSpPr>
            <p:spPr>
              <a:xfrm rot="648000">
                <a:off x="2660040" y="1822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rot="648000">
                <a:off x="2663280" y="1801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 name=""/>
              <p:cNvSpPr/>
              <p:nvPr/>
            </p:nvSpPr>
            <p:spPr>
              <a:xfrm rot="648000">
                <a:off x="2669760" y="17668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 name=""/>
              <p:cNvSpPr/>
              <p:nvPr/>
            </p:nvSpPr>
            <p:spPr>
              <a:xfrm rot="648000">
                <a:off x="2664720" y="17866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rot="648000">
                <a:off x="2680200" y="18331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648000">
                <a:off x="2654280" y="183060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648000">
                <a:off x="2638800" y="182664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2619360" y="17794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648000">
                <a:off x="2709000" y="179424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648000">
                <a:off x="2608920" y="202752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648000">
                <a:off x="2642760" y="204480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648000">
                <a:off x="2657520" y="18309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 name=""/>
              <p:cNvSpPr/>
              <p:nvPr/>
            </p:nvSpPr>
            <p:spPr>
              <a:xfrm>
                <a:off x="2660400" y="18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4" name=""/>
              <p:cNvSpPr/>
              <p:nvPr/>
            </p:nvSpPr>
            <p:spPr>
              <a:xfrm>
                <a:off x="2662200" y="180432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rot="648000">
                <a:off x="2668680" y="17679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6" name=""/>
              <p:cNvSpPr/>
              <p:nvPr/>
            </p:nvSpPr>
            <p:spPr>
              <a:xfrm flipH="1">
                <a:off x="2635200" y="1829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661120" y="18331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648000">
                <a:off x="2618280" y="202644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
              <p:cNvSpPr/>
              <p:nvPr/>
            </p:nvSpPr>
            <p:spPr>
              <a:xfrm>
                <a:off x="2663280" y="17949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0" name=""/>
              <p:cNvSpPr/>
              <p:nvPr/>
            </p:nvSpPr>
            <p:spPr>
              <a:xfrm rot="648000">
                <a:off x="2634480" y="204048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1" name=""/>
              <p:cNvSpPr/>
              <p:nvPr/>
            </p:nvSpPr>
            <p:spPr>
              <a:xfrm rot="648000">
                <a:off x="2658600" y="20462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 name=""/>
              <p:cNvSpPr/>
              <p:nvPr/>
            </p:nvSpPr>
            <p:spPr>
              <a:xfrm rot="648000">
                <a:off x="2625120" y="209700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2666520" y="17805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64" name=""/>
            <p:cNvSpPr/>
            <p:nvPr/>
          </p:nvSpPr>
          <p:spPr>
            <a:xfrm>
              <a:off x="1946160" y="2117880"/>
              <a:ext cx="317844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68"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71"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73"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74"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9"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282"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283" name=""/>
          <p:cNvGrpSpPr/>
          <p:nvPr/>
        </p:nvGrpSpPr>
        <p:grpSpPr>
          <a:xfrm>
            <a:off x="1946160" y="1973520"/>
            <a:ext cx="3168720" cy="1303200"/>
            <a:chOff x="1946160" y="1973520"/>
            <a:chExt cx="3168720" cy="1303200"/>
          </a:xfrm>
        </p:grpSpPr>
        <p:grpSp>
          <p:nvGrpSpPr>
            <p:cNvPr id="284" name=""/>
            <p:cNvGrpSpPr/>
            <p:nvPr/>
          </p:nvGrpSpPr>
          <p:grpSpPr>
            <a:xfrm>
              <a:off x="2118240" y="1973520"/>
              <a:ext cx="139320" cy="383760"/>
              <a:chOff x="2118240" y="1973520"/>
              <a:chExt cx="139320" cy="383760"/>
            </a:xfrm>
          </p:grpSpPr>
          <p:sp>
            <p:nvSpPr>
              <p:cNvPr id="285" name=""/>
              <p:cNvSpPr/>
              <p:nvPr/>
            </p:nvSpPr>
            <p:spPr>
              <a:xfrm rot="648000">
                <a:off x="2179440" y="20239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 name=""/>
              <p:cNvSpPr/>
              <p:nvPr/>
            </p:nvSpPr>
            <p:spPr>
              <a:xfrm rot="648000">
                <a:off x="2179080" y="2035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rot="648000">
                <a:off x="2182320" y="20145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rot="648000">
                <a:off x="2188800" y="197964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rot="648000">
                <a:off x="2183760" y="19994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rot="648000">
                <a:off x="2199240" y="20458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648000">
                <a:off x="2173320" y="204336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648000">
                <a:off x="2157840" y="20394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138400" y="19922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648000">
                <a:off x="2228040" y="200700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648000">
                <a:off x="2127960" y="22402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648000">
                <a:off x="2161800" y="225756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648000">
                <a:off x="2176560" y="20437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8" name=""/>
              <p:cNvSpPr/>
              <p:nvPr/>
            </p:nvSpPr>
            <p:spPr>
              <a:xfrm>
                <a:off x="2179440" y="20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9" name=""/>
              <p:cNvSpPr/>
              <p:nvPr/>
            </p:nvSpPr>
            <p:spPr>
              <a:xfrm>
                <a:off x="2181240" y="20170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rot="648000">
                <a:off x="2187720" y="19807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1" name=""/>
              <p:cNvSpPr/>
              <p:nvPr/>
            </p:nvSpPr>
            <p:spPr>
              <a:xfrm flipH="1">
                <a:off x="2154240" y="2042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180160" y="20458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648000">
                <a:off x="2137320" y="22392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a:off x="2182320" y="20077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rot="648000">
                <a:off x="2153520" y="22532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 name=""/>
              <p:cNvSpPr/>
              <p:nvPr/>
            </p:nvSpPr>
            <p:spPr>
              <a:xfrm rot="648000">
                <a:off x="2177640" y="22590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 name=""/>
              <p:cNvSpPr/>
              <p:nvPr/>
            </p:nvSpPr>
            <p:spPr>
              <a:xfrm rot="648000">
                <a:off x="2144160" y="23097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a:off x="2185560" y="19933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09" name=""/>
            <p:cNvSpPr/>
            <p:nvPr/>
          </p:nvSpPr>
          <p:spPr>
            <a:xfrm>
              <a:off x="1946160" y="232740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4:58:36Z</dcterms:created>
  <dc:creator>GREG CHEETHAM</dc:creator>
  <dc:description/>
  <dc:language>en-US</dc:language>
  <cp:lastModifiedBy>GREG CHEETHAM</cp:lastModifiedBy>
  <dcterms:modified xsi:type="dcterms:W3CDTF">2007-10-27T04:57:05Z</dcterms:modified>
  <cp:revision>8</cp:revision>
  <dc:subject/>
  <dc:title>PowerPoint Presentation</dc:title>
</cp:coreProperties>
</file>